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8A1-9B57-4CDD-8DB9-09047318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80A-72FA-4733-9B0D-0EFCCD6D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5F3-D9C4-4D92-981F-9CFC7300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A41-9DD4-4C50-A326-A9ACF266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78A52-2E65-4A28-A581-0B10DF42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ED5A7-13B8-486B-B1CF-09B64D25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6B76B-033D-4B2C-A0C7-A0C67432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B1FC8-D833-44F2-BBE7-A0CF99BD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D9602-58B8-4B98-9B65-FFE28359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BC68D-3A6C-41B8-8638-E5811309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CDA5B-9C57-4F8E-BFE7-0A48A9B7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3CA-F25A-4B43-8D83-6B59E31F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56A08-9344-406B-A871-1C25BAEA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24000-F5CD-4DCC-80DA-9B4F5D03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40642-611A-4478-9A01-F861E991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A7B2F-8F6C-4EF7-A8A9-1DCB6C1A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A6AE3-92F2-4F36-B03B-718FEA86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D23-8C9B-40A4-8154-F6363495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39B-7500-4B45-8A5F-0DF0AE0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E81-FA1B-4108-8871-7A86A656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BAD-9C14-4D4A-97CF-1F40408B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48D-ACF8-41F0-BA03-8D88D5BB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E68-197D-4A83-B635-B439DE46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E15-3269-4A29-854A-DEA30B50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E173-8B78-4D21-8F4F-855F138A7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0E56-A9D6-4769-99EB-44B1C01D5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GRAINE HEADACHE IN CHILD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hair Shehadeh-Saieg M.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diatric De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nai-Zion Medical Center, Hai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ncidence of migra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50% of cases :  &lt; 20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youngest age reported was 3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y  : 1-3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-15  : 4-1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7y &gt;&gt;&gt; M&gt;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-11y  M=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11  F&gt;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igns and symptoms of intracranial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eep related heada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ence of family history of migra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miting\absence of visual 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ache of less than six month du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normal neurologic exami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wth abnormality ,pulsatile tini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ck of response to medical thera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athophysi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cular theo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onal theory ( cortical spreading depress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cipitating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x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d trau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l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ietary items and chemical migraine trigg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fending food i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e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co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 dogs,ham, cured me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ugort, dairy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ian frozen snack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e, be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ffee, tea,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diyes, addi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emical trigg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ram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tric oxide, nitr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ergenic proteins (casein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sodium glutam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art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tamine, tyramine sulf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hophyiology sche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tri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us ceruleus         &gt;&gt;  cortical deppre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geminal nucleus             vasoconstri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uronal inflammation              a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odilat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362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124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4572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3048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809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eroton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eased from brainstem serotonergic nucle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s an important role in the pathogenesis of migr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action upon the cranial vascul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le in central pain control path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lassification of migraine 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revised international headache society IHS 200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ine without a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ine with a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ine with typical a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graine without aura (IHS 200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at least 5 attacks fulfilling criteria B through 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Headache attacks lasting 4 to 72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headache has at least 2 of the foll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unilateral 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pulsating qu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moderate or severe pain inten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aggravation by or causing avoidence 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utine physical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during headache at least one of the folow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usea, vomiting, or both, photophobia, phonophob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not attributed to another disor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graine with aura (IHS 200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at least 2 attacks fulfilling criteria 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migraine aura fulfilling criteria B or C for one of the following subform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ical aura with migraine heada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ical aura with nonmigraine p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ical aura without heada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milial hemiplegic migra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oradic hemiplegic migra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lar type migra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Not attributed to another disor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Tahoma"/>
              </a:rPr>
              <a:t>הצגת מקר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בן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 שנים ו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 חודשי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ברקע בריא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ffffff"/>
                </a:solidFill>
                <a:uFillTx/>
                <a:latin typeface="Tahoma"/>
              </a:rPr>
              <a:t>ת.ע</a:t>
            </a:r>
            <a:r>
              <a:rPr b="1" lang="he-IL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מזה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 שבועות סובל מכאבי ראש פרונטאלים לוחצים שנמשכים כמה שעות ועוברים ספונטאנית או אחרי משכחי כאבים. ללא פוטופוביה או פונופוביה. לעתים בליווי בחילות אך ללא הקאות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ffffff"/>
                </a:solidFill>
                <a:uFillTx/>
                <a:latin typeface="Tahoma"/>
              </a:rPr>
              <a:t>ס.מ</a:t>
            </a:r>
            <a:r>
              <a:rPr b="1" lang="he-IL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כאב גב תחתון מזה כמה ימים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לציין ספור משפחתי של מיגרנה וכאבי גב תחתון אצל האב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graine with typical aura (IHS 200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least 2 attacks fulfilling criteria B or 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. Aura consisting at least one of the following, but no motor weaknes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lly reversible visual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lly reversible sensory symptoms   (numbness, pins and needl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lly reversible dysphas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 at least two of the following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monymous visual and/or unilateral sensory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 least one aura symptom developes gradually over &gt;5minu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ach symptom lasts &gt;5 and &lt;60 minu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. headache fulfilling criteria B through D for Migraine without au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gins during the aura or follows aura within 60 minu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. not attributed to another disord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Familial Hemiplegic Migraine (IHS 200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ine with a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least one first or second degree relative who has migraine aura that includes motor wea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 inheri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poradic hemiplegic migraine (IHS 200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ine with an aura of motor weakness with no family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asilar type migra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19% of children with migr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rage age 7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ipital headac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combination of : vetigo, ataxia,diplopia,tinnitus,vomiting,visual symptom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sthesias and altered conscious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ence of wea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hildhood periodic syndromes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 precursors of migraine according to revised       IHS criteri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clic vomiting syndro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dominal migra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ign paroxismal vertigo of childh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Retinal migraine (ocular migra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dden loss of vision, perception of bright 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ed within one hour by a migrainous headach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ible neurologic sympto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 visual loss may occ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symptoms may occur without headach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omplications of migra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nic migr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migrainosus  (&gt; 72 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istent aura without infar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inous infar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ine-triggered seiz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graine vari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ice in wonderland syndr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usional migr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isyndrome migr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strual migr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hthalmoplegic migr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pproach to the child with recurrent headac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 exa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atory or imaging stu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When to perform neuroimaging study 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lt; 3 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normal neurological ex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nic progressive patt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y reassu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ffffff"/>
                </a:solidFill>
                <a:uFillTx/>
                <a:latin typeface="Tahoma"/>
              </a:rPr>
              <a:t>סימנים חיוניים</a:t>
            </a:r>
            <a:r>
              <a:rPr b="1" lang="he-IL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חום=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36.3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   דופק=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102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   לחץ דם=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104/8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ffffff"/>
                </a:solidFill>
                <a:uFillTx/>
                <a:latin typeface="Tahoma"/>
              </a:rPr>
              <a:t>בדיקה פיסיקלית: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 תקינה כולל בדיקת פונדוסי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בדיקה נוירולוגית תקינ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 u="sng">
                <a:solidFill>
                  <a:srgbClr val="ffffff"/>
                </a:solidFill>
                <a:uFillTx/>
                <a:latin typeface="Tahoma"/>
              </a:rPr>
              <a:t>מעבדה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כולל ספירת דם, מדדי דלקת, אלקטרוליטים ושתן לכללית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האטה דיפוזית ללא מוקד פרכוסי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:E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תקין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1" lang="he-IL" sz="2800" spc="-1" strike="noStrike" u="sng">
                <a:solidFill>
                  <a:srgbClr val="ffffff"/>
                </a:solidFill>
                <a:uFillTx/>
                <a:latin typeface="Tahoma"/>
              </a:rPr>
              <a:t> מוח</a:t>
            </a:r>
            <a:r>
              <a:rPr b="1" lang="he-IL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RI Vs C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no sufficient data to make a specific recommendation regarding the relative sensitivity of MRI compared with C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prefer MRI because of vascular differential diagn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EG and migra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EG is not indicated in the routine evaluation of headac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performed if seizures are suspec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EG findings in children with migrai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Rolandic spike and wa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Benign focal epileptiform dischar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anagement of migra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pharmacologic methods (biofeedback, relaxation,exerci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rmacologic therapy for acute att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ive ther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harmacologic 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ain med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cetaminophen, NSAIDS) alone or in combination with antiemetic medications (migrale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oconstrictors ergot alkaloids/xanthine (cafergot, tamigr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ptans-5HT1D agonists (imitrex, zomi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ine status (&gt; 72 h in adults) - steroids, D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hydroergotam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ript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HT1 (hydroxytriptamin) receptor agon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vasoconstri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ock pain pathway in the brain 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all efficacy 63-88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icacy and safety were established in adolescents (&gt;12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oved for use in Israel from 18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ide effec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feeling of warmth, burning, pressure in the head and neck, palpitations, arrythmias, hypotension &lt;1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.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complicated migra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academy of pediatric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tober 9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ptomatic treatment of migraine in children: a systematic review of medication t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etaminophen, ibuprofen, and nasal, spray sumatryptan are all effective symptomatic pharmacologic treatments for episodes of migraine in childr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Indications for migraine prophylax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ks occur &gt;2-4 times per mo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ability occurs &gt; 3 days per mo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ation of attack &gt; 48 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tions for acute attack are ineffective, C.I or over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ks produce prolonged aura or true migrainous infar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ient prefe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uration of prophylactic 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ptimum duration of prophylactic therapy is uncer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pproach is to treat for 6-12 months and then taper over the course of several wee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are limited on the effectiveness of preventive agents in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reventive 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 bloc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deppres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convuls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 channel blo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בוצע ניקור מותני שהיה תקין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במהלך האישפוז היה שיפור קליני ושוחרר לביתו עם אבחנ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sion heada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אשפוז חוזר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72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 שעות אחרי בצוע הניקור המותנ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כאבי ראש פרונטאלים ובחילו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בבדיקה פיסיקלית מתקשה בהליכה ועמידה וסימני גירוי מנינגיאלי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גב מותני תקין</a:t>
            </a:r>
            <a:r>
              <a:rPr b="0" lang="he-IL" sz="24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 blo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ranolol was the prophylactic treatment most commonly used in children, primarily based upon evidence in adul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I: asth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tion: depression, diabetes, orthostatic hypotension, impot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מדדי דלקת היו תקיני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סוכם כסובל מכאבי ראש לאחר ניקור מותני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היה שפור קליני ניכר תחת טיפול אנלגטיקה וקפאי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Tahoma"/>
              </a:rPr>
              <a:t>שוחרר להמשך מעקב נוירולוג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eadache class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imary headac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graine, tension , clu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condary headac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, trauma, hemorrhage, tumor, high   intracranial press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ension headac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lateral, pressing tight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throbbing, mild to mode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s from 30 minutes to several d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be associated with photophobia or phonophob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not accompanied by nausea or vomi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luster headac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apparent between ages 10-20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:F  =  9:1   after age 20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unilateral, mainly frontal-peri-orb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e nature, less than three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associated with ipsilateral autonomic finding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lacrimation, rhinorrhea, ophthalmic injection,  horner syndrom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igra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isodic, periodic, paroxysmal attacks of moderate to severe throbbing pain, separated by pain free interval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d with nausea, vomiting, photophobia, abdominal pain and desire to sleep, motion sic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y history 70-9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5:25:54Z</dcterms:created>
  <dc:creator>soso</dc:creator>
  <dc:description/>
  <dc:language>en-US</dc:language>
  <cp:lastModifiedBy>soso</cp:lastModifiedBy>
  <dcterms:modified xsi:type="dcterms:W3CDTF">2005-10-21T19:45:33Z</dcterms:modified>
  <cp:revision>40</cp:revision>
  <dc:subject/>
  <dc:title>MIGRAINE HEADACHE</dc:title>
</cp:coreProperties>
</file>