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803-356A-44C6-BEFB-F6049F87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7CB-41B2-4703-A07F-518A1837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442-1DD7-441B-BCFD-7D322132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6D9-992B-4D33-93E1-B584D8AB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9A93-9DE2-4EF6-A48D-A069A335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8BAE-DFB1-4F05-BAB6-E015E142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13A8-D1D3-41F3-8270-5DDBF558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2529-17BD-44C5-B040-D9C4C998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7651-53D5-462C-9E5E-D40D053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5FD3-FD1B-4F25-AABE-B1BDE360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C35B-2223-41C9-8C39-0976C55F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568-54F8-4C1B-B518-2A1C11F0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9883-FE18-4B65-8E9E-F9D6EFFF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FB52-7A58-4D90-9013-AE8F6EF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2D61-B794-4A1A-A0ED-9F436590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A8D9-A5F6-45DA-A06E-78BCDF4E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B206-31A7-4AF9-914F-94F4FEED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BF5-CDAC-4BF8-A438-8443DF5F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4BA-2FEF-4CAA-8BD3-6DBE3237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C65-A79D-4F57-A0A4-C11FD426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949-C3F3-495E-94C3-532B2458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026-E07A-4C63-A47A-8C09595F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F4B-7E1A-41FD-B2E8-5F0E00C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D48-6A32-47C7-B70F-4B8F98F2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58FB-114B-4E3D-9D7F-976EE7194699}" type="slidenum">
              <a:rPr b="0" lang="he-I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B4B1-DB06-48CB-A34E-581E585200CD}" type="slidenum">
              <a:rPr b="0" lang="he-I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 rtl="1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 rtl="1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 rtl="1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gegarandeerd.nl/upload/opdrachtgevers/puzzel.GIF&amp;imgrefurl=http://www.gegarandeerd.nl/nl/html/algemeen/avance_site/Contactformulier.asp&amp;h=400&amp;w=335&amp;sz=21&amp;hl=iw&amp;start=7&amp;tbnid=ODs8EVM6kKzEvM:&amp;tbnh=124&amp;tbnw=104&amp;prev=/images%3Fq%3D%2BPUZZEL%26svnum%3D10%26hl%3Diw%26lr%3D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igshistoryonline.co.uk/Images/sherlock%2520holmes.jpg&amp;imgrefurl=http://www.igshistoryonline.co.uk/Resources/Year%25208%2520Resources.htm&amp;h=672&amp;w=800&amp;sz=31&amp;hl=iw&amp;start=127&amp;tbnid=odVhdJxlKFF3lM:&amp;tbnh=120&amp;tbnw=143&amp;prev=/images%3Fq%3Dsherlock%2Bholmes%26start%3D120%26ndsp%3D20%26svnum%3D10%26hl%3Diw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redskap.se/Graphics/puzzel.gif&amp;imgrefurl=http://www.redskap.se/index.php%3Fpid%3D3&amp;h=200&amp;w=200&amp;sz=11&amp;hl=iw&amp;start=2&amp;tbnid=0HbdSqWF-ytQkM:&amp;tbnh=104&amp;tbnw=104&amp;prev=/images%3Fq%3D%2BPUZZEL%26svnum%3D10%26hl%3Diw%26lr%3D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www.blood-pressure.co.il/bblo/wp-content/themes/bp/images/statoscop.jpg&amp;imgrefurl=http://www.blood-pressure.co.il/&amp;h=90&amp;w=120&amp;sz=18&amp;hl=iw&amp;start=1&amp;tbnid=WnlVnX9CETZikM:&amp;tbnh=66&amp;tbnw=88&amp;prev=/images%3Fq%3D%2BSTATOSCOP%26svnum%3D10%26hl%3Diw%26lr%3D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il/imgres?imgurl=http://ginisty.typepad.com/weblog/images/question.jpg&amp;imgrefurl=http://www.ginisty.com/weblog/2005/08/index.html&amp;h=367&amp;w=250&amp;sz=20&amp;hl=iw&amp;start=9&amp;tbnid=tVXYnl85J3YWhM:&amp;tbnh=122&amp;tbnw=83&amp;prev=/images%3Fq%3D%2BQUESTION%26ndsp%3D20%26svnum%3D10%26hl%3Diw%26lr%3D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16 </a:t>
            </a:r>
            <a:r>
              <a:rPr b="0" lang="hi-IN" sz="4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לאו לנער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000" y="5876640"/>
            <a:ext cx="24750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Verdana"/>
                <a:cs typeface="Guttman Hatzvi"/>
              </a:rPr>
              <a:t>ד"ר יוסי רימ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2781360"/>
            <a:ext cx="8001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here is nothing more stimulatin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han a case where everything go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against you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6028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ירוע הנוכחי – המשך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0000"/>
                </a:solidFill>
                <a:latin typeface="Verdana"/>
              </a:rPr>
              <a:t>יומיים לאחר מכן יואב חוזר עקב עלית חום שהתרחשה בלילה עד ל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מעל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0000"/>
                </a:solidFill>
                <a:latin typeface="Verdana"/>
              </a:rPr>
              <a:t>בבדיקתו אין שינו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</a:rPr>
              <a:t>אבחנה מבדלת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טרפ. פנוימוני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יקופלסמה / כלמידי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דלקת וירלית "שהסתבכה "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"אחר"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4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ך תמשיך בטיפול עכשיו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  <a:cs typeface="Guttman Hatzvi"/>
              </a:rPr>
              <a:t>האם כרגע יש מקום לבירור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ttman Hatzv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ttman Hatzv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83520" y="333360"/>
            <a:ext cx="11746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ם  יש מקום לצילום חזה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848360" cy="149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7848360" cy="116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979640" y="3573360"/>
            <a:ext cx="48960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רוע נוכחי - המש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וחלט על מתן אזניל למשך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ימי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לאחר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שעות חלה ירידה בחו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גם השיעול הראה מגמת שיפור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ביקורת שנערכה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ימים לאחר תחילת הטיפו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לא נשמעו קרפיטציות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משוחרר ללא הוראות נוספות לביתו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333360"/>
            <a:ext cx="143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2707920"/>
            <a:ext cx="7380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I am  glad  of  all  details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whether  they  seem to you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o  be  relevant  or  not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ומיים לאחר מכן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מגיע למרפאה ומדווח שוב על חום של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מעלות ,כאבים בחזה ימין ותחושת קוצר נשימה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בדיקתו קרפיטציות על פני החצי התחתון של ריאה ימין. קצב נשימה של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6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ללא רושם של מצוקה. ניקוש והדהוד – תקיני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דלקת ריאות נשנית באותו מקום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הי האבחנה המבדלת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600" spc="-1" strike="noStrike">
                <a:solidFill>
                  <a:srgbClr val="000000"/>
                </a:solidFill>
                <a:latin typeface="Verdana"/>
                <a:ea typeface="Guttman Hatzvi"/>
              </a:rPr>
              <a:t>    סיבות שמתוך דרכי האויר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600" spc="-1" strike="noStrike">
                <a:solidFill>
                  <a:srgbClr val="000000"/>
                </a:solidFill>
                <a:latin typeface="Verdana"/>
                <a:cs typeface="Guttman Hatzvi"/>
              </a:rPr>
              <a:t>שכיחות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גוף ז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600" spc="-1" strike="noStrike">
                <a:solidFill>
                  <a:srgbClr val="000000"/>
                </a:solidFill>
                <a:latin typeface="Verdana"/>
                <a:cs typeface="Guttman Hatzvi"/>
              </a:rPr>
              <a:t>לא שכיחות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שחפ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גידו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המנגיומ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פפילומ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- גרנולומ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דלקת ריאות נשנית באותו מקום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הי האבחנה המבדלת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שמחוץ לדרכי האויר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000" spc="-1" strike="noStrike">
                <a:solidFill>
                  <a:srgbClr val="000000"/>
                </a:solidFill>
                <a:latin typeface="Verdana"/>
                <a:ea typeface="Guttman Hatzvi"/>
              </a:rPr>
              <a:t> שכיח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בלוטות לימפה לוחצ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000" spc="-1" strike="noStrike">
                <a:solidFill>
                  <a:srgbClr val="000000"/>
                </a:solidFill>
                <a:latin typeface="Verdana"/>
                <a:ea typeface="Guttman Hatzvi"/>
              </a:rPr>
              <a:t> לא שכיח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טבעות וסקולרי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רקואידוזי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גידול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213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iner Hand ITC"/>
              </a:rPr>
              <a:t>Chance has put in our way a most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iner Hand ITC"/>
              </a:rPr>
              <a:t>     singular and whimsical problem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iner Hand ITC"/>
              </a:rPr>
              <a:t>          and its solution is its own rewar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דלקת ריאות נשנית באותו מקום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–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הי האבחנה המבדלת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מבני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 middle lobe sy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ציסטה ברונכוגנית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פולמונרי סקווסטרצי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ברונכיאל סטנוזי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genital cystic adenomatoid malformation</a:t>
            </a: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Arial"/>
              </a:rPr>
              <a:t>ברונכואקטזיות</a:t>
            </a:r>
            <a:r>
              <a:rPr b="0" i="1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ך מתקדמים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בירור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צילום חזה (או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?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דיקות עז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פקודי נשימה (בשאלה של אסטמה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נט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טיפו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אנטיביוטיק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0960" y="260280"/>
            <a:ext cx="831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וצאות הבירור הראשוני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000000"/>
                </a:solidFill>
                <a:latin typeface="Verdana"/>
              </a:rPr>
              <a:t>צילום חזה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000000"/>
                </a:solidFill>
                <a:latin typeface="Verdana"/>
              </a:rPr>
              <a:t>ס. דם –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8.00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עם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אחוז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000000"/>
                </a:solidFill>
                <a:latin typeface="Verdana"/>
              </a:rPr>
              <a:t>באנדים ללא חריגות אחרות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החלטה על טיפול 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This picture shows a chest x-ray of pneumonia in the right lung "/>
          <p:cNvPicPr/>
          <p:nvPr/>
        </p:nvPicPr>
        <p:blipFill>
          <a:blip r:embed="rId2"/>
          <a:stretch/>
        </p:blipFill>
        <p:spPr>
          <a:xfrm>
            <a:off x="684360" y="1773360"/>
            <a:ext cx="3456000" cy="334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לאחר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ימי טיפול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מצבו של יואב ללא שינוי משמעותי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הכאבים בחזה חלפו אך עדיין יש חו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שנע סביב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9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מעלות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בהאזנה כרגע קרפטיציות בריאה שמאל עליונ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1" lang="he-IL" sz="3000" spc="-1" strike="noStrike">
                <a:solidFill>
                  <a:srgbClr val="cc0000"/>
                </a:solidFill>
                <a:latin typeface="Verdana"/>
                <a:cs typeface="Guttman Adii-Light"/>
              </a:rPr>
              <a:t>מה עכשיו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2852640"/>
            <a:ext cx="80010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ner Hand ITC"/>
              </a:rPr>
              <a:t>Well, Wat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ner Hand ITC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Viner Hand ITC"/>
              </a:rPr>
              <a:t>we seem to have fallen upon evil day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...במיון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יואב נשלח למיון להעמקת הבירור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בצילום חזה תסנינים הן בריאה ימין תחתונה וה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בריאה שמאל עליונה ובלינגולה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טורציה באוויר חדר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93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אחו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. דם – לויקוציטוזיס ובאנדמיה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P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– 350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he-IL" sz="3000" spc="-1" strike="noStrike">
                <a:solidFill>
                  <a:srgbClr val="cc0000"/>
                </a:solidFill>
                <a:latin typeface="Verdana"/>
              </a:rPr>
              <a:t>מה הבירור שהיית שולח במיון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בחנה מבדלת – דלקת ריאות חוזרת דיפוזי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ציסטיק פבירוזיס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סטמה - (כולל ברונכופולמונרי אספרגילוזיס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שחפת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חוסר חיסוני - הפרעה ביצור נוגדנים, בעיה בפעילות אחד התאים (למשל בעיה בתפקוד נויטרופילים), בעיית משלים, תסמונות גנטיות בעלות הפרעה חיסונית, ובעיות שניוניות נרכשות על רקע מחלות כמו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V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, סכרת,אנמיה חרמשית וכדומה, חשיפה לתרופות אימונוסופרסיביות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ספירציה - עקב מצבים נוירולוגים ,מחלות עצב-שריר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      הפרעות ושתיות: רפלוקס, פיסטולה טרכיאו-איזופגיטלית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mary ciliary dyskines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מומי לב מולדים שונים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חרים – וסקוליטיסים שונים (כגון וגנר),המוסידרוזיס ראתי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                   פרוטאינוזיס ראתי, חוסר באלפא-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 אנטי-טריפסין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בירור 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דיקות דם "רחבות" – (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E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ואנטי טריפסין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?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בחין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P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רולוגיה לכלמידיה ומיקופלסמ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CR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ללגיונל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סרולוגיה 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V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ירור חיסוני  - (איזה ?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זמנה לתבחין זיע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יעוץ פולמונולוגי – בשאלה של הדמיה מתקדמ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יזה טיפול היית בוחר 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000" spc="-1" strike="noStrike">
                <a:solidFill>
                  <a:srgbClr val="000000"/>
                </a:solidFill>
                <a:latin typeface="Verdana"/>
                <a:cs typeface="Guttman Hatzvi"/>
              </a:rPr>
              <a:t>רוצפין ואזניל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21640" y="189000"/>
            <a:ext cx="880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</a:rPr>
              <a:t>המשך הבירור...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בדיקת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PD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-  תקינ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תבחין זיעה  -   שליל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בירור סרולוגי -  שליל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CR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לליגיונלה - שליל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E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- תקי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הבירור החיסוני שנשלח (נוגדנים ומשלים) – תקין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מצבו של יואב ללא שיפור. ויש התקדמות בממצאים ההאזנתיים ורושם לנוזל בריאה ימין תחתונה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מומחה הריאות מבקש.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וא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הוא נער בן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מטופל במרפאתך מזה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שנ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היסטוריה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- עד גיל שנה מספר אירועי קוצר נשימ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שטופלו בהשאפה וחלפ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- עד גיל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דלקות אוזניים חוזרות ונוזלי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נזקק במספר אירועים לטיפול אנטיביוטי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לא נזקק לצינוריות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2565360"/>
            <a:ext cx="80010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My dear Watson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there we come into those  realms  of conjecture  where  the  most  logical mind  may  be  at  fault</a:t>
            </a:r>
            <a:r>
              <a:rPr b="0" lang="he-IL" sz="3600" spc="-1" strike="noStrike">
                <a:solidFill>
                  <a:srgbClr val="000000"/>
                </a:solidFill>
                <a:latin typeface="Viner Hand ITC"/>
              </a:rPr>
              <a:t> 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T</a:t>
            </a:r>
            <a:r>
              <a:rPr b="0" lang="he-IL" sz="3800" spc="-1" strike="noStrike">
                <a:solidFill>
                  <a:srgbClr val="000000"/>
                </a:solidFill>
                <a:latin typeface="Verdana"/>
              </a:rPr>
              <a:t> ריאות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דגים תהליך דלקתי באיזורים שהודגמו בצילום החזה אבל בנוסף מדגים ה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3000" spc="-1" strike="noStrike" u="sng">
                <a:solidFill>
                  <a:srgbClr val="000000"/>
                </a:solidFill>
                <a:uFillTx/>
                <a:latin typeface="Verdana"/>
              </a:rPr>
              <a:t>נודולים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ראתיים מרובים בכל שטח הריאות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אין הגדלת בלוטות לימפה ראתיות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he-IL" sz="3000" spc="-1" strike="noStrike">
                <a:solidFill>
                  <a:srgbClr val="0000ff"/>
                </a:solidFill>
                <a:latin typeface="Verdana"/>
                <a:cs typeface="Guttman Hatzvi"/>
              </a:rPr>
              <a:t>מה האבחנה המבדלת עכשיו 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נודולים ראתיים – אבחנה מבדלת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זיהומים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שחפ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זיהומים עם מיקובקטריה אטיפית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זיהום פטריית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תסחיפים ספטיי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חלות ממאירות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לימפומה וגידולים נוספי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אחרים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 malform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סרקואידוזי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GD -chronic granulomatous disea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יעוצים.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מטולוג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סבירות נמוכה ללימפומה כרגע אין סיבה לרחבת הבירור בכיוון זה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יעוץ אימונולוגי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כיוון שרמות המשלים , רמות נוגדנים כלליות ו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V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תקינים יש להתקדם הלאה בשאלה של הפרעה בתפקוד נויטרופילי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יעוץ פולמונולוגי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יש לבצע....ברונכוסקופי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68040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There is so much red tape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in these matter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ודעה ממעבדה מיקרוביולוגית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צמיחה של חיידקים גראם שליליים בעלי תבנית גדילה שיכולה להתאים לפסוידומונס 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בחין זיעה – כזוב שליל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סיבות שכיחות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כמות זיעה קטנה מד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דרמטיטי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שימוש בסטרואיד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תייבש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גיל נבדק צעיר מאו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ת תזונ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בחין זיעה – כזוב שליל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אנדוקריניות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תת פעילות של בלוטת האדרנל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תת פעילות של בלוטת התריס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פאן-היפו-פיטואיטריז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תת פעילות משפחתית של בלוטת הפארא-תירואי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דיאבטס אינסיפידוס שאינה מגיבה לואזופרסין או נפרוגנית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r" rtl="1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  <a:cs typeface="Guttman Hatzvi"/>
              </a:rPr>
              <a:t>סיבות מטבוליות וגנטיות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מחלות אגירת גליקוג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מוקופוליסכרידוזי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פוקוזידוזיס מסוג </a:t>
            </a: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אקטודרמל דיספלזיה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r" rtl="1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100" spc="-1" strike="noStrike">
                <a:solidFill>
                  <a:srgbClr val="000000"/>
                </a:solidFill>
                <a:latin typeface="Verdana"/>
              </a:rPr>
              <a:t>כולסטזיס משפחתי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בחין זיעה – כזוב שליל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  <a:cs typeface="Guttman Hatzvi"/>
              </a:rPr>
              <a:t>אחר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תת תזונה וחסר חלבוני</a:t>
            </a:r>
            <a:br>
              <a:rPr sz="3000"/>
            </a:b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אטופיק דרמטיטיס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רבית סופית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ner Hand ITC"/>
              </a:rPr>
              <a:t>Burkholderia cepacia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יואב - המש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תפתחות תקינה, אחוזוני משקל וגובה – 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דוע על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6PD</a:t>
            </a: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מאז לידתו עקב צהבת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על חגורה שחורה בקראט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משפחה – אסטמה קלה לא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6805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יכן ניתן למצוא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  <a:ea typeface="Guttman Adii-Light"/>
              </a:rPr>
              <a:t>Burkholderia cepacia</a:t>
            </a:r>
            <a:r>
              <a:rPr b="0" lang="he-IL" sz="3200" spc="-1" strike="noStrike">
                <a:solidFill>
                  <a:srgbClr val="000000"/>
                </a:solidFill>
                <a:latin typeface="Viner Hand ITC"/>
                <a:ea typeface="Guttman Adii-Light"/>
              </a:rPr>
              <a:t> ?</a:t>
            </a:r>
            <a:r>
              <a:rPr b="0" lang="he-IL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חוסרים חיסוניים – בעיקר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G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קטרמיות בפגי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לדים עם ממאירות ראתי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מוגלובינופתי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זיהום נוזוקומיאלי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021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32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ם היית משנה את הטיפול התרופתי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Verdana"/>
              </a:rPr>
              <a:t>TMX</a:t>
            </a:r>
            <a:r>
              <a:rPr b="0" lang="he-IL" sz="3000" spc="-1" strike="noStrike">
                <a:solidFill>
                  <a:srgbClr val="0000ff"/>
                </a:solidFill>
                <a:latin typeface="Verdana"/>
              </a:rPr>
              <a:t> מוסף לטיפול הקודם עקב היעילות הסינרגיסטי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21640" y="189000"/>
            <a:ext cx="880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47640" y="2781360"/>
            <a:ext cx="70200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Come, friend Watson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the curtain rings 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Viner Hand ITC"/>
              </a:rPr>
              <a:t>for the  last act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1361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</a:rPr>
              <a:t>לקינוח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האבחנה המבדלת כרגע היא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-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- חסר חיסוני – במקום הראשון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G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     - מחלה ממאר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cc0000"/>
                </a:solidFill>
                <a:latin typeface="Verdana"/>
                <a:cs typeface="Guttman Hatzvi"/>
              </a:rPr>
              <a:t>מה האבחנה שלך ?</a:t>
            </a:r>
            <a:r>
              <a:rPr b="0" lang="he-I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6360" y="40464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כמה מילים על </a:t>
            </a:r>
            <a:r>
              <a:rPr b="0" lang="en-US" sz="3800" spc="-1" strike="noStrike">
                <a:solidFill>
                  <a:srgbClr val="000000"/>
                </a:solidFill>
                <a:latin typeface="Baskerville Old Face"/>
                <a:ea typeface="Guttman Adii-Light"/>
              </a:rPr>
              <a:t>CG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שכיחות –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250.00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האנזים הפגום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DPH OXYD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מכיל 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תת-יחידות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פגמים נמצאו עד היום ב-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מה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2/3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מהמקרים ביחידה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P91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– על כרומוזום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רגישות מיוחדת לחיידקים בעלי האנזים קאטאלא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אבחנה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B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he-IL" sz="2000" spc="-1" strike="noStrike">
                <a:solidFill>
                  <a:srgbClr val="000000"/>
                </a:solidFill>
                <a:latin typeface="Verdana"/>
              </a:rPr>
              <a:t> בעבר),</a:t>
            </a: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hydrorhodamine flow cytomet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600" spc="-1" strike="noStrike">
                <a:solidFill>
                  <a:srgbClr val="000000"/>
                </a:solidFill>
                <a:latin typeface="Verdana"/>
              </a:rPr>
              <a:t>טיפול – גאמא  אינטרפרו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738240" y="311616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תוד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ירוע הנוכח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ואב מספר על שיעול טורדני והרגשת חולש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השיעול מתרחש בכל שעות היו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חום נמדד פעמיים ונמצא כתקי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יש חבר קרוב המשתעל מזה כשבוע – ללא חו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אין תופעות נלוות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000" spc="-1" strike="noStrike">
                <a:solidFill>
                  <a:srgbClr val="000000"/>
                </a:solidFill>
                <a:latin typeface="Verdana"/>
              </a:rPr>
              <a:t>בבדיקתו הגופנית – קרפיטציות עדינות לסרוגין בריאה ימין תחתונה ואודם קל בל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3080" y="260280"/>
            <a:ext cx="14857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האם יש מקום לבירור או לטיפו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Guttman Adii-Light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35920" y="260280"/>
            <a:ext cx="1322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442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זהמים שכיחים בדלקות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ריאה בילדים בקהילה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454280" cy="446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זהמים </a:t>
            </a:r>
            <a:r>
              <a:rPr b="0" lang="hi-IN" sz="3400" spc="-1" strike="noStrike">
                <a:solidFill>
                  <a:srgbClr val="0000ff"/>
                </a:solidFill>
                <a:latin typeface="Verdana"/>
                <a:cs typeface="Guttman Adii-Light"/>
              </a:rPr>
              <a:t>לא-שכיחים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Guttman Adii-Light"/>
              </a:rPr>
              <a:t> בדלקות </a:t>
            </a:r>
            <a:br>
              <a:rPr sz="3400"/>
            </a:br>
            <a:r>
              <a:rPr b="0" lang="hi-IN" sz="34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ריאה בילדים בקהילה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960720" cy="368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3743280" cy="362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Verdana"/>
                <a:cs typeface="Guttman Adii-Light"/>
              </a:rPr>
              <a:t>מזהמים שכיחים בגיל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Guttman Adii-Light"/>
              </a:rPr>
              <a:t>5-1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3076560"/>
            <a:ext cx="8281800" cy="1254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8208720" cy="1041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524720" y="260280"/>
            <a:ext cx="99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08:03:30Z</dcterms:created>
  <dc:creator>user</dc:creator>
  <dc:description/>
  <dc:language>en-US</dc:language>
  <cp:lastModifiedBy>Liora Zakai</cp:lastModifiedBy>
  <dcterms:modified xsi:type="dcterms:W3CDTF">2006-12-07T17:37:42Z</dcterms:modified>
  <cp:revision>96</cp:revision>
  <dc:subject/>
  <dc:title>המקרה המוזר של  הנער המשתעל</dc:title>
</cp:coreProperties>
</file>