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8D5-345E-4F17-B236-2A110CCF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3C1-B36C-451E-9C82-E1AFEAF4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828-CFE6-43B9-B3F6-AFA40D57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0FB-3D9D-4151-9F96-A2179DAD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50A5-3905-499F-9D1C-089D55AF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B7AD-1E32-45A7-A1A7-8CA6693B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827B-4101-4405-826F-B3FFFE9F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1988-EEAC-4FF1-9A89-3E2DE837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C1AD-EDD5-4CED-80C5-A3B87414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C1F4-3B8C-4A56-81B7-F0DB7E8F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7EEE-D551-4C62-88E2-CD3FBDC0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139-6B70-4109-ACC3-DB1B73DF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FBE9-ED36-4390-906D-80B48A6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DFBD-F042-4043-9583-5EEE7C2F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B769-0880-4E46-A78B-3D46E320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FA6E-3104-45B9-97EE-007D96DA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E9BB-64BB-498A-A3BF-1C00347D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A5F-CC07-488F-BBA3-1B7E65A7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637-74AC-4E2B-A972-12973BB5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019-C5B8-49B2-8848-D2E88DBA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E1E-F45C-4D0A-B684-67AF205B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3D1-BC37-4959-B68B-63283B4C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D59-C02F-448A-B526-BD1B0C0D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98D-E0DE-426D-9CE0-2C684996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1CC6-C419-45B6-AD79-55BAA87BFCE4}" type="slidenum">
              <a:rPr b="0" lang="he-I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6056-4D5C-4F16-8997-A2174E282B10}" type="slidenum">
              <a:rPr b="0" lang="he-I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The brain and the immune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Monotype Corsiva"/>
                <a:ea typeface="Times New Roman (Hebrew)"/>
              </a:rPr>
              <a:t>Mind over matt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81160" y="5805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eaeaea"/>
                </a:solidFill>
                <a:latin typeface="Times New Roman"/>
              </a:rPr>
              <a:t>ד"ר יוסי רימ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inic anatomy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t cells are accumulated near NE fib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een innervation anat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innervation to spleen is sympathe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nervation to white pu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mpathetic innervation to periarte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mphatic sh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most no innervation to B cells follic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red pu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ymph node anat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radrenergic fibers to cortical and paracortical regions (T cells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innervation to medulla or germinal centers (B c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one marrow anat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enough infor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rves end in parenchym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rves mature before immune cells dev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uration of immune cells nerve dependent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 mast cell (S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 macroph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 T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nsynaptic NE releas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mphoid organs as thymus or spleen can store NE and release it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A from circulation can also be stor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PY is also released from nerves but only during high frequency stimulation, NE is released with slow frequency stim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nsynaptic NE rele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onsynaptic connection differ from synaptic o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usion distance is lar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unication is one to man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on is long and ton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ptors are high affin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ARs as recep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st innervation in lymphoid tissue nons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60199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NPY conn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PY acts as neurotransmitter and modul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CNS and peripher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PY fibers supply mostly vasculat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y affect lymphocyte traff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vitro NPY suppresses NK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ytokines and S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70 Besedovsky : immune system sign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 induced increase in plasma steroi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 altered hypothalamic NE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 lowers NE in spl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SUPER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AP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NS                    IMMUNE S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2895480"/>
            <a:ext cx="990720" cy="7621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428640" y="2895480"/>
            <a:ext cx="1066680" cy="83844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4191120"/>
            <a:ext cx="129528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241200"/>
            <a:ext cx="7315200" cy="6616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24560" y="6156360"/>
            <a:ext cx="338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0b5b"/>
                </a:solidFill>
                <a:latin typeface="Monotype Corsiva"/>
              </a:rPr>
              <a:t>Developmen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NS and immune sys. develop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bitrh almost no innervation of lymphoid tissues by the S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nsity of neurons increase with ag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n when thymus involution is pronounced no decrease in innerv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onatally sympathectomized rats show alteration in T B and NK activity and decrease in IgM productio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 has an influence on the immune system matu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matopoiesis and the S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mice NE and DA exhibit daily rhyth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 has positive correlation with G2/M and S phases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exposed to pritoneal Pseudomona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ce respondes in 130% increase of NE turnover in bone marrow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matopoiesis and S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α1-A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ntagonists increase blood granulocy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y also decrease spleen T and B cel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yelopoiesis is under sympathetic inhibition whereas lymphocyte production needs NE stimulatio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ytokine wa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&amp; INF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 produce increase in sympath. Activity in spl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L-1 IL-6 &amp; TNF- α activates CRH and trigger activation of SNS and H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CV infusion of IL-1 and INF- α decreas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eripheral and splenic NK cell activity and suppress mitogen respon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vidence to specific functional pathways in ANS controlled by distinct reflexes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NF-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α and IL-1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ystemic Vs. local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atically - NE incr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 - TNF decrease NE innervation in 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using elevation of AC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 -IL-1 elevates N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c66"/>
                </a:solidFill>
                <a:latin typeface="Times New Roman"/>
              </a:rPr>
              <a:t>Adrenoreceptors and lymphocytes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ta receptor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lymphoid cells express beta receptor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cept T help. Type 2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ptors density : NK&gt;mono&gt;Tc=B&gt;Th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cells also have beta A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osin. Baso. Neutrop. Thymo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MP response difference in the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ysiologic control of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adrenergic recep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very complex multi-layer control mechanism with feed-backs between the CNS/SNS and the immune syste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 TNF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crease receptors dens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eroids augment this effect further mo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-proteins also play a major role in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AR regulation in immune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pha recep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ly found in JRA, induce IL-6 in response to stim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          </a:t>
            </a: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The historical l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8160" y="160020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2438280"/>
            <a:ext cx="0" cy="99072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8880" y="358128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HPA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4419720"/>
            <a:ext cx="0" cy="99036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5495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3600" y="5638680"/>
            <a:ext cx="399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MMUNE SY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pamine recep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1-D5 RECEP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3-D5 may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nctional role undetermined y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NS and lymphocyte traffi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administration causes a quick lymphocyte mobiliz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ed by granulocyte increase and relative neutropen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mainly affect NK cells and granulocy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T or B cel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ute psychological stress or physical exercise cause transient lymphocytosis mainly NK cell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NS and lymphocyte traffi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rbutaline is a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agoni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 days of treatment cause Tc and NK redu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modulated NK circulation mainly via spleen-dependen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erent lymphocyte subpopulation have different sensitivity to C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EN00378_" descr=""/>
          <p:cNvPicPr/>
          <p:nvPr/>
        </p:nvPicPr>
        <p:blipFill>
          <a:blip r:embed="rId1"/>
          <a:stretch/>
        </p:blipFill>
        <p:spPr>
          <a:xfrm>
            <a:off x="2322360" y="1693800"/>
            <a:ext cx="4497480" cy="3468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593160" y="5334120"/>
            <a:ext cx="82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93360" y="914400"/>
            <a:ext cx="82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1 : INF-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γ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,IL-2 ,TNF-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2 : IL-4 ,IL-10 ,IL-13,IL-9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 be (Th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 or not to be (Th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are found on 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n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agonist inhibit INF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production by 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effect on IL-4 production by 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vivo – deralin causes increase in LPS induced TNF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production and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agonists inhibi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70866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ically -  CAs inhibit Th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function selectively 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cholamines and signal pathwa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G-proteins are expressed in different cells and are activated by 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ositol phosphate increase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ctivatio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 PDE and PKA are the cytosolic media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activated TNF-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 IL-12 are inhibi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L-10 production increa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hways - the sequ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ophylline amrinone roliparm- PDE block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vent NO ,TNF-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 ,INF- and IL-12 production after LP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aning cAMP connection to proinflammatory  media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L-2 production is inhibited by cAM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L-2 &amp; TNF has NF-Kb. IL-4,IL-10 don’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novel l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2400" y="175248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8640" y="3733920"/>
            <a:ext cx="29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mune sy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2590920"/>
            <a:ext cx="0" cy="1066680"/>
          </a:xfrm>
          <a:prstGeom prst="line">
            <a:avLst/>
          </a:prstGeom>
          <a:ln cap="sq"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 through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R-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MP supress type 1 but potentiate type 2 cytokine produc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t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cal effect of CA may differ from systemic ones by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-AR stim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 and cellular immunity - 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have dual effect on NK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pinephrine causes short &amp; transient increase of NK numb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 the other hand – CA cause inhibition of NK cell activi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hibition is reversed by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AR antagoni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H (increase SNS activity) produce a decrease in NK cell activi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effect is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steroid depende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tients with CHF – NE levels are very high. A positive correlation of NE levels and NK cells activi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 and cellular activity-macroph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roversia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inhibits mo.activation by INF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stimulate mac, to suppress MAI by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AR wa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ffect most probably depends on receptors bala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A and cellular activity–mast cell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lose anatomic relationship between sympathetic and peptidergic nerves and macrophage and mast cel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 and peripheral CRH are potent mast cell secretagogu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imulation of histamine release by α-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hibition by β-A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7 costimulatory T cell receptor is CA regulated b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MP levels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 and cellular activity – neutroph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inhibit neutrophils phagocytosis &amp; neutrophils lysosomal relea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iratory burst also inhibi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AR stimulation decrease rate of superoxide produ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 and humoral immun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timulation elevate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MP level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B cells differentiate into plasma cell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7 molecule is up-regulate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b production by B cells enhance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ells provide the cytokines necessary to for B cells grow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jor inju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jor injuries or major surgical procedures often lead to immunosupress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fter trauma there is a biphasic response pattern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- sympathoadrenal sto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 - HPA axis stimul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animal model suppression of cellular immunity is associated with low IL-12 and INF production and increase in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L-1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in trauma cause sympathetic storm and IL-10 elevation. High IL-10 levels correlated with high incidence of infe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nkoff 1899 – nerves enter lymph no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per &amp; Crouzon 1904 – leukocytosis af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renalin injec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higami 1919 – stress and inf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talnikov 1920 – immune sys and pavlov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uler 1946 – NE isolated from sple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70-80’s – cytokines and hormones are cross-talking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erenberg 1989 - Stress system and autoimmune d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NF and IL-1 produce a systemic response to endotoxi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ti-TNF and IL-1 receptor antagonist show small benef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y volunteeres challenged with endo toxin and pretreated with adrenalin had increased IL-10 levels and decrease TNF leve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tients with low preoperative IL-12 secretion ,by monocyte , had more sep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immune protocols be used in order to shift cells population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oimmun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ral autoimmune disease are characterized by 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/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mbala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ANS/HPA axis influence autoimmunity in a complex wa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hyporeactive SNS cause T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hift and facilitate disease states like RA and MS 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hyper-reactive SNS cause Th2 shift and facilitate disease states like SLE 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UMOR GROW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L-12 levels are critical for tumor regres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cal overproduction of IL-10 inhibits IL-12 production as well as TN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overproduction inhibits NK cells and Tc compromising resistance to metastas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18240" y="2438280"/>
            <a:ext cx="16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Monotype Corsiva"/>
              </a:rPr>
              <a:t>fin</a:t>
            </a:r>
            <a:endParaRPr b="0" lang="en-US" sz="9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5467320" cy="5800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642640" y="556272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b5b"/>
                </a:solidFill>
                <a:latin typeface="Monotype Corsiva"/>
              </a:rPr>
              <a:t>Anatom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anatomy of the neuroimmun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ystem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PN-CRH and LC-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ymic anat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ymus is inervated along blood vesse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 postgang. sympath. Fibers to the corte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spar the medu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er cortex has the dancest in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immature thymocy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sculature in the corticomedullary par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richly inervated (migratio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2:54:37Z</dcterms:created>
  <dc:creator>user</dc:creator>
  <dc:description/>
  <dc:language>en-US</dc:language>
  <cp:lastModifiedBy>user</cp:lastModifiedBy>
  <dcterms:modified xsi:type="dcterms:W3CDTF">2005-09-05T07:14:15Z</dcterms:modified>
  <cp:revision>65</cp:revision>
  <dc:subject/>
  <dc:title>The brain and the immune system</dc:title>
</cp:coreProperties>
</file>