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2905-52D3-469C-80BD-E7CFA468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C4E3-8171-45C2-8089-57DB5061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4118-C1E3-4B8D-838F-9A37FECA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2EC6-1EFF-474E-8478-FE27249F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76BE-AEFC-4724-969E-1A8F6ABB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2B6B-5210-4F1E-BBD3-90B597C6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5213-952D-402F-AA0D-EE427D11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B0D8-8E81-4DBA-94CF-FDD73651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B16F-36E0-4695-97A6-3D5534E9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C275-4615-4429-854E-CCE472A9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2C64-B1F0-4781-82A9-BA841A17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91B2-A0FA-4E51-8854-E91C1EB4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566D-20FE-40AD-830B-7E20EC81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F8D2-3499-4381-838E-F2F04A6C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D048-09A8-4374-A5E6-C0008113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4F0B-4591-4563-A093-8D997F15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C8A2-03E0-4821-9567-F261FEE2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2329-6F00-42FB-A9E3-BA7E9D45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3A9D-9216-4562-9BA2-E5E2DAE3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9D10-4A33-4AF7-9DFC-56A0A32E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E06C-6027-4B1B-B97C-F22E05F4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5077-131C-4358-8056-29894A17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59D9-E516-4869-9CAB-9ABA576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D25B-292D-4C8B-B867-D3CC11DC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6BFE-080D-4942-84F2-95EA120CDD8B}" type="slidenum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76CA-75DF-408E-B5C4-1F39210FFCB4}" type="slidenum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images.google.co.il/imgres?imgurl=http://www.yourhealthonline.ca/images/artImages/thermometer_lg.jpg&amp;imgrefurl=http://www.yourhealthonline.ca/article_layoutb.asp%3Fid%3D1&amp;h=143&amp;w=218&amp;sz=9&amp;tbnid=IF-_q92d7ZoJ:&amp;tbnh=66&amp;tbnw=101&amp;hl=iw&amp;start=40&amp;prev=/images%3Fq%3D%2Bfever%2Bbrain%26start%3D20%26hl%3Diw%26lr%3D%26sa%3DN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yourhealthonline.ca/images/artImages/thermometer_lg.jpg&amp;imgrefurl=http://www.yourhealthonline.ca/article_layoutb.asp%3Fid%3D1&amp;h=143&amp;w=218&amp;sz=9&amp;tbnid=IF-_q92d7ZoJ:&amp;tbnh=66&amp;tbnw=101&amp;hl=iw&amp;start=40&amp;prev=/images%3Fq%3D%2Bfever%2Bbrain%26start%3D20%26hl%3Diw%26lr%3D%26sa%3DN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home.comcast.net/~eschermc/Reptiles.jpg&amp;imgrefurl=http://home.comcast.net/~eschermc/&amp;h=715&amp;w=830&amp;sz=74&amp;tbnid=jEmuql7MpWMJ:&amp;tbnh=123&amp;tbnw=143&amp;hl=iw&amp;start=62&amp;prev=/images%3Fq%3Dreptiles%26start%3D60%26hl%3Diw%26lr%3D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bioweb.uwlax.edu/zoolab/Table_of_Contents/Lab-9a/Mammals/Lab_9a-21a.jpg&amp;imgrefurl=http://bioweb.uwlax.edu/zoolab/Table_of_Contents/Lab-9a/Mammals/mammals.htm&amp;h=300&amp;w=422&amp;sz=33&amp;tbnid=1mhlHKPzt0wJ:&amp;tbnh=86&amp;tbnw=121&amp;hl=iw&amp;start=99&amp;prev=/images%3Fq%3Dmammals%26start%3D80%26hl%3Diw%26lr%3D%26sa%3D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gettingfoodstamps.org/images/question.jpg&amp;imgrefurl=http://www.gettingfoodstamps.org/rights.htm&amp;h=214&amp;w=300&amp;sz=7&amp;tbnid=pBEbCXjjBy8J:&amp;tbnh=79&amp;tbnw=111&amp;hl=iw&amp;start=3&amp;prev=/images%3Fq%3Dquestion%26hl%3Diw%26lr%3D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co.il/imgres?imgurl=http://www.rcvr.org/scuole/negrar/media/lavori/temperatura/faren.jpg&amp;imgrefurl=http://www.rcvr.org/scuole/negrar/media/lavori/temperatura/tem.htm&amp;h=240&amp;w=240&amp;sz=18&amp;tbnid=BKTOCKX4tu0J:&amp;tbnh=104&amp;tbnw=104&amp;hl=iw&amp;start=9&amp;prev=/images%3Fq%3Dfahrenheit%2Bgabriel%26hl%3Diw%26lr%3D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47280" y="2636640"/>
            <a:ext cx="6156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FEVER-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one very hot topic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333600" cy="22669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419840" y="51768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ד"ר יוסי רימ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34920" y="673200"/>
            <a:ext cx="675468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היסטוריה של מדידת חום - ו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התיחסות הראשונה לחום היא בכתבים אכדים במאה ה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לפני הספירה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מכשיר הראשון למדידת טמפרטורת סביבה מתועד למאה השניה טרם הספיר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דידת חום מדויק בהקשר רופאי החלה רק בשנת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8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1420560" cy="19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הסטוריה של מדידת חום-וו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6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שנת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1868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החל קארל אוגוסט ריינהולד וולנדרליך למדוד חום במתנדבי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מהלך השנים הוא תעד כמליון ! מדידות ע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25000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תנדבים שונים – ופרסם את תצפיותיו ב"אופוס מגנום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מדידות בוצעו ע"י מדחום מתחת לבית-השח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יום ידוע שהמדחומים בהם השתמש לא כוילו כראו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למרות  שחלפו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שנה קביעותיו של וונדרליך עדיין  משמשות  כאבן  הפינה  בהתיחסות לחום גוף תקין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492200" cy="20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היסטוריה של מדידת חום -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405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וונדרליך קבע מספר "קבועי חום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שעימם אנו חיים גם כיו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גוף תקין  -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98.6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פרנהיי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37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צלזיו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גוף פתולוגי-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100.4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פרנהיי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38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צלזיו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161136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אם וונדרליך שגה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339640" y="1196640"/>
            <a:ext cx="6335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appraisal of 98.6 degrees F, the upper limit of the normal body temperature, and other legacies of Carl Reinhold August Wunderli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kowiak PA, Wasserman SS, Levine MM.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A. 1992 Sep 23-30;268(12):1578-8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542960" cy="21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האם לילדים חום גוף שונה מלבוגרים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Fever ? Normal Temperature in Infants Less Than 3 Month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zog LW, Coyne LJ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 Pediatr 1993;32:142-1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648320" y="1600200"/>
          <a:ext cx="4038120" cy="4532400"/>
        </p:xfrm>
        <a:graphic>
          <a:graphicData uri="http://schemas.openxmlformats.org/drawingml/2006/table">
            <a:tbl>
              <a:tblPr/>
              <a:tblGrid>
                <a:gridCol w="1180440"/>
                <a:gridCol w="1721160"/>
                <a:gridCol w="1136520"/>
              </a:tblGrid>
              <a:tr h="11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Age in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Mean tempera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Mean </a:t>
                      </a:r>
                      <a:r>
                        <a:rPr b="1" lang="en-US" sz="12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+ 2 S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Birth-30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31-60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61-91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תרמורגולציה-פזיולוגיה של חו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ירוגנים אנדוגנים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NF-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ירוגנים אקסוגני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ירוגנים שלא דר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GE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P-1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404640"/>
            <a:ext cx="1282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69120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68360" y="374760"/>
            <a:ext cx="79200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Monotype Corsiva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Monotype Corsiva"/>
              </a:rPr>
              <a:t>Heat is the immortal substance of life endowed with intelligence….if refrigeration is not provided , the heat will consume itself”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5651280" y="3886200"/>
            <a:ext cx="212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ffff00"/>
                </a:solidFill>
                <a:latin typeface="Arial"/>
              </a:rPr>
              <a:t>היפוקרט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810108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Monotype Corsiva"/>
              </a:rPr>
              <a:t> </a:t>
            </a:r>
            <a:r>
              <a:rPr b="0" i="1" lang="en-US" sz="4800" spc="-1" strike="noStrike">
                <a:solidFill>
                  <a:srgbClr val="ffff00"/>
                </a:solidFill>
                <a:latin typeface="Monotype Corsiva"/>
              </a:rPr>
              <a:t>"Fever itself is Nature's instrument."</a:t>
            </a:r>
            <a:br>
              <a:rPr sz="4800"/>
            </a:br>
            <a:br>
              <a:rPr sz="2800"/>
            </a:br>
            <a:r>
              <a:rPr b="0" i="1" lang="en-US" sz="4800" spc="-1" strike="noStrike">
                <a:solidFill>
                  <a:srgbClr val="ffff00"/>
                </a:solidFill>
                <a:latin typeface="Monotype Corsiva"/>
              </a:rPr>
              <a:t>                    -</a:t>
            </a:r>
            <a:r>
              <a:rPr b="0" i="1" lang="en-US" sz="2800" spc="-1" strike="noStrike">
                <a:solidFill>
                  <a:srgbClr val="ffff00"/>
                </a:solidFill>
                <a:latin typeface="Monotype Corsiva"/>
              </a:rPr>
              <a:t>Thomas Sydenham (1624-89)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" descr="Thomas Sydenham [1624-1689]"/>
          <p:cNvPicPr/>
          <p:nvPr/>
        </p:nvPicPr>
        <p:blipFill>
          <a:blip r:embed="rId1"/>
          <a:stretch/>
        </p:blipFill>
        <p:spPr>
          <a:xfrm>
            <a:off x="179280" y="189000"/>
            <a:ext cx="1387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979280" y="274680"/>
            <a:ext cx="6707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חום הגוף יכול להגיע ל-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42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מעלות עקב זיהום חיידקי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55480" y="278136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69840" y="278136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תקרת הזכוכית של יצור החו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קריוגנים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סטרואידי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-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1282680" cy="83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74856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5219280" y="475920"/>
            <a:ext cx="2957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999ff"/>
                </a:solidFill>
                <a:latin typeface="Arial"/>
              </a:rPr>
              <a:t>שמור אבולוציוני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למה להוריד חו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שינוי התנהגות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ניעת פרכוסי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שינוי בתחלואה ובתמות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הורדת חום עוזרת להחלמה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71480" y="249228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446200" y="249228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 and survival.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uger MJ, Ringler DH, Anver M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188:166 8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: effect of drug-induced antipyresis on survi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rnheim HA, Kluger MJ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193:237 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08360" y="692280"/>
            <a:ext cx="49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חום בזוחלים – טוב או רע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65600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6920" y="333000"/>
            <a:ext cx="48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חום ביונקים - טוב או רע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fluence of environmental temperature on the course of experimental herpes simplex infe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midt JR, Rasmussen AF J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Infect Di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6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107:356 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s influencing host-virus interactions. III. Further studies on the alteration of Coxsackie virus infection in adult mice by environmental temperatu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er DL, Boring W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Immuno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5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s of high ambient temperature on various stages of rabies virus infection in m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l JF, Moore 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Infect Immu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10:510 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5364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אספירין וזיהום ברינו-וירוס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2349000"/>
            <a:ext cx="7715160" cy="37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viral shedding with aspirin treatment of rhinovirus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ley ED, Jackson GG, Panusarn C, et a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231:1248 5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13082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ורדת חום וזיהום ברינו וירוסים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800244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se effects of aspirin, acetaminophen, and ibuprofen on immune function, viral shedding, and clinical status in rhinovirus-infected volunte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aham MH, Burrell CJ, Douglas RM, et a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 Infect D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162:1277 8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3078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תיאור מקרה</a:t>
            </a:r>
            <a:r>
              <a:rPr b="0" lang="he-IL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ילד בן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15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חודש, אמא בת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, סבתא בת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חום בבית – מדידה באוזן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40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אינו מגיב לאקמו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תנגד לאמבטית מים קר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בקיעת שן מולרית מזה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ימ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עירני וחיונ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מפרטורה רקטלית –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39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7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25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8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30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ורדת חום בילדים בזמן אבעבועות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0755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: more harm than good for chickenpox?</a:t>
            </a:r>
            <a:br>
              <a:rPr sz="2800"/>
            </a:b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ran TF, De Angelis C, Baumgardner RA, Mellits 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 Pediatr. 1989 Jun;114(6):1045-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13082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יפול בפאראצטמול בזמן זיהום במלריה</a:t>
            </a:r>
            <a:r>
              <a:rPr b="0" lang="he-I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218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 of paracetamol on parasite clearance time in Plasmodium falciparum malaria.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andts CH, Ndjave M, Graninger W, Kremsner PG.</a:t>
            </a:r>
            <a:br>
              <a:rPr sz="28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cet. 1997 Sep 6;350(9079):704-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3078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פאראצטמול בזמן זיהום חיידקי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14716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s of antipyretics in young children with fever due to infectious disease.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gimura T, Fujimoto T, Motoyama H, Maruoka T, Korematu S, Asakuno Y, Hayakawa H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a Paediatr Jpn. 1994 Aug;36(4):375-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13078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685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יש קורלציה בין התגובה למורידי חום וחומרת או מהות המחלה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91520" cy="37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ירידה גדולה יותר בחום – מחלה קלה יות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ירידה גדולה יותר בחום – מחלה קשה יות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ין קשר בין עוצמת הירידה ועוצמת המחל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25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50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07" dur="50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08" dur="50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תגובה לאקמול כאמצעי לאבחנה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ldhood fever: correlation of diagnosis with temperature response to acetaminophen.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ker MD, Fosarelli PD, Carpenter R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diatrics. 1987 Sep;80(3):315-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יכן מודדים חו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הליבה – נמדדת בעורק הפולמונר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פה- מתחת ללשון (בכיס הלשון האחור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פי הטבע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וז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בית השח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עור – מגע, טרמיסטור חיצוני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    (עבור כל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"מ עומק יש עליה של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ה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יחסי הטמפ' בין איזורי המדידה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הליבה – העורק הפולמונר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בפה – נמוכה ב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0.4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 מטמפ' הליב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רקטלית – גבוה ב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0.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 מהליב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באוזן – לא ברור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בעור – לא ברור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אם ניתן לזהות חום במגע יד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brief report on the normal range of forehead temperature as determined by noncontact, handheld, infrared thermometer.</a:t>
            </a:r>
            <a:br>
              <a:rPr sz="2000"/>
            </a:br>
            <a:br>
              <a:rPr sz="18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g DK, Chan CH, Chan EY, Kwok KL, Chow PY, Lau WF, Ho J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J Infect Control. 2005 May;33(4):227-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3876840"/>
            <a:ext cx="76327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מדידת טמפ' מצחית בעזרת קרינה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R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העלתה חומים שבין 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31-35.6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מעלו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1000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נבדקים, 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מכשירי חישה שונים , השוואה למד-חום דיגיטל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אמינות השיטה לא ברורה ואין תמיד קורלציה עם מד-החום הדיגיטל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bility of mothers to assess the presence of fever in their children without using a thermometer.</a:t>
            </a: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Alves JG, Correia Jde B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Trop Doct. 2002 Jul;32(3):145-6. 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848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מהות ממעמד סוציואקונומי נמוך (ברזיל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רק ל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1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היה מדחום בבי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76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זיהו נכונה קיום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זיהו נכונה חום גוף תקי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Reliability of perception of fever by touch.</a:t>
            </a:r>
            <a:br>
              <a:rPr sz="2000"/>
            </a:b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Chaturvedi D, Vilhekar KY, Chaturvedi P, Bharambe MS.</a:t>
            </a: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Indian J Pediatr. 2003 Nov;70(11):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56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ילדים עם חו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קבוצה א :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ילדים עד גיל שנ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קבוצה ב :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ילדים בני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6-1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שנ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רופאים וההורים רשמו האם יש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לאחר מכן נבדק חום רקטל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75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זיהו קיום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HELP 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627280" y="40428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הורים יכולים לזהות את השפעת האקמול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34760" y="249228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85840" y="249228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41800" y="36147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71280" y="40428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יפול בפאראצטמול בזמן מחלות חום וירליות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s and benefits of paracetamol antipyresis in young children with fever of presumed viral origin.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ramer MS, Naimark LE, Roberts-Brauer R, McDougall A, Leduc DG.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cet. 1991 Mar 9;337(8741):591-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33360"/>
            <a:ext cx="13082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ה זה מדחו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כל מכשיר המסוגל למדוד חום גו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דרגת דיוק ש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0.1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בטווח ש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37-39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0.2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בטווח ש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39-41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0.3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בטווח שמע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0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דחום כספית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99ff"/>
                </a:solidFill>
                <a:latin typeface="Arial"/>
              </a:rPr>
              <a:t>יתרונות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: אמין, זו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חסרונות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: זמן הגעה לטמפ' מקסימלית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5-8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ד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לעיתים קושי בקריאת התוצא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מכיל כספי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לסיכום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:  לא מומלץ  בעיקר עקב סכנת שבירה וזיהו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הסביבה בכספית, ככל הנראה המדחום המדוי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ביות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460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9152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מדחום דיגיטל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בבסיסו עומד טרמיסטור שהינו רכיב המשנה את התנגדותו לזרם חשמלי כתלות בטמפרטורה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e-IL" sz="2400" spc="-1" strike="noStrike">
                <a:solidFill>
                  <a:srgbClr val="3399ff"/>
                </a:solidFill>
                <a:latin typeface="Arial"/>
              </a:rPr>
              <a:t> יתרונות</a:t>
            </a:r>
            <a:r>
              <a:rPr b="0" lang="he-I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: צג פשוט וברו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זמן מדידה קצ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לא נשבר בקלו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זו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e-IL" sz="2400" spc="-1" strike="noStrike">
                <a:solidFill>
                  <a:srgbClr val="ff0066"/>
                </a:solidFill>
                <a:latin typeface="Arial"/>
              </a:rPr>
              <a:t>חסרונות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: נטיה לסחיפה של ערכי המדיד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 לא ניתן לדעת מתי מזיי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לסיכום   :  </a:t>
            </a:r>
            <a:r>
              <a:rPr b="0" lang="he-IL" sz="2400" spc="-1" strike="noStrike">
                <a:solidFill>
                  <a:srgbClr val="3399ff"/>
                </a:solidFill>
                <a:latin typeface="Arial"/>
              </a:rPr>
              <a:t>האפשרות המומלצת כיו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444240" cy="202248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05092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ודדי חום בתעלת האוז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מחזור הדם של התופית מגיע מהקרוטיד הפנימי ולכן חום התופית משקף די בנאמנות את חום הליבה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המכשירים בנויים מקולט קרינה אינפרא-אדומה המבצע עיבוד של המידע הנקלט מאיזור התופי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442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מודדי חום בתעלת האוזן-המש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9999ff"/>
                </a:solidFill>
                <a:latin typeface="Arial"/>
              </a:rPr>
              <a:t>יתרונות :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זמן בדיקה קצר ביות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הבדיקה אינה פולשנית ואינה גורמת אי נוחו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66"/>
                </a:solidFill>
                <a:latin typeface="Arial"/>
              </a:rPr>
              <a:t>חסרונות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חוסר קורלציה בין החום הנמדד ברקטום או בפ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    לזה הנמדד באוזן בחלק מהמחקרי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בחלק מהמחקרים נמצאה שונות הן בין מדידה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    למדידה והן בין אוזן לאוזן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קיים שוני בין המכשירים השונים הקיימים בשווקים כשלחלק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    מהם אמינות טובה יותר מלאחרי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לסיכום:  </a:t>
            </a:r>
            <a:r>
              <a:rPr b="0" lang="he-IL" sz="2000" spc="-1" strike="noStrike">
                <a:solidFill>
                  <a:srgbClr val="ff0066"/>
                </a:solidFill>
                <a:latin typeface="Arial"/>
              </a:rPr>
              <a:t>לא מומל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460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00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האם חום מעל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41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מצביע על שכיחות גבוהה יותר של זיהומים חמורים ביחס לחומים נמוכים יותר 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287120" y="285264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89120" y="285264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2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ידת חום רקטלי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הרקטלית גבוהה יותר עקב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אספקת דם ירודה יחסי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בידו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אפקט "אגן החום" המיוצר ע"י הצואה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הרקטלית מתאחרת – ביחס לחום הליב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לא יעילה במצב של שינויים קיצוני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עבור כל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ס"מ עומק עולה הטמפ' ב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0.8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לא אמינה בפגיעות ראש (עד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 הבדל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ידת חום בבית-השחי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ין כל הגיון פיזיולוגי למדידה באיזור ז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שך המדידה עד להגעה לטמפ' מקסימלית –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דקו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נתון לשינויים בטמפ' העו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חקרים הדגימו חוסר אמינות בולט של שיטת מדידה ז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ידת חום בעור-התוף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תבססת על קרינ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כנולוגית יש לבצע קריאה מדויקת מעור התוף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ולהבדילה מקרינה מתעלת האוז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יתרונות רבים למיקום,לקלות לקיחת הקריא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חסרונות – אמינות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סקלות למדידת חו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195640" y="141264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רנהייט מול צלזיו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80960" cy="21891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331600" y="335700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niel Gabriel Fahrenhei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Anders Celsius"/>
          <p:cNvPicPr/>
          <p:nvPr/>
        </p:nvPicPr>
        <p:blipFill>
          <a:blip r:embed="rId3"/>
          <a:stretch/>
        </p:blipFill>
        <p:spPr>
          <a:xfrm>
            <a:off x="900000" y="3935520"/>
            <a:ext cx="1463760" cy="1801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61320" y="335700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ers Celsiu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005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גדרת המונח חו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FEVE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IS A STATE OF ELEVETED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RE TEMPERATURE ,WHICH  IS OFTEN BU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OT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CESSARILY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ART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FENCIVE 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SPONSES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OF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HE MOLTICELLULAR ORGANISM (HOST)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INVATION OF LIVE (MICROORGANIS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R INANIMATE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MATTER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COGN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PATHOGENIC OR ALIEN BY THE HOST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IUPS Thermal Commission. Glossary of terms for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thermal physiology.second edition .Pflugers Arch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1987;410:567-58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4:21:46Z</dcterms:created>
  <dc:creator>user</dc:creator>
  <dc:description/>
  <dc:language>en-US</dc:language>
  <cp:lastModifiedBy>user</cp:lastModifiedBy>
  <dcterms:modified xsi:type="dcterms:W3CDTF">2005-09-05T07:49:05Z</dcterms:modified>
  <cp:revision>63</cp:revision>
  <dc:subject/>
  <dc:title>FE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