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B17-3259-448B-ACA1-0EA1CAF5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122-D5CC-4206-8D9A-D17BE1F8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59D-5FB0-44A6-A2FE-CC61787C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487-8CE4-4713-A1F4-6351594E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1C5-832B-408F-886D-1A9DF8D1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509E-AFA8-42DF-8CC6-44E48AAC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FE5E-1E4E-4E2B-8A02-0994B52F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4283-0AAB-4B9A-8F26-B45F9B04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0009-1B72-4086-8062-950387CE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7B8B-5E03-4037-A0AD-6D9C40A8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BB0E-3A62-4E3F-A19F-C15C99BD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E23-E931-4583-9627-30B8762F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3FDB-15D9-4FBF-9483-A8B1E6D6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56D1-330C-48F5-915A-A12FF81B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B12E-0702-4D71-857C-32555AF6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F3B1-BF2B-438C-8273-656BEEED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8083-1B7B-428F-88F4-24099524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5A9-4D7A-4159-ABD0-BB92528A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5C2-B6D5-485F-BF45-C290F7FB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6D2-D79F-4DB0-AFCD-DA1249B7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D12-DA12-4BD3-B1A2-BF62D28A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93C-6CF6-48E8-B876-F141A3E9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376-1D2D-4BEF-9FD8-AC713B3A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564-0040-4FD3-9625-4614CC67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074-8105-41BB-8BF2-CE56BD476874}" type="slidenum">
              <a:rPr b="0" lang="he-IL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3F8-1413-4641-8904-B01CAFB18AF1}" type="slidenum">
              <a:rPr b="0" lang="he-IL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0" r="0" b="352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60560" y="91404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Obstructive Sleep Apnea Syndrome 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518148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. Amir B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nei-Zion Medical Cen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Pathophysi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4861080"/>
            <a:ext cx="685800" cy="176832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057040" y="4861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35812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5715000"/>
            <a:ext cx="1828800" cy="4597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d A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645000"/>
            <a:ext cx="1904760" cy="4597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ed A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4191120"/>
            <a:ext cx="533520" cy="143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661" y="1026"/>
                  <a:pt x="5721" y="5080"/>
                  <a:pt x="5721" y="10800"/>
                </a:cubicBezTo>
                <a:cubicBezTo>
                  <a:pt x="5721" y="16520"/>
                  <a:pt x="13661" y="2057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171960"/>
            <a:ext cx="2438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p. Neg. press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981080"/>
            <a:ext cx="3200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tomical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171960"/>
            <a:ext cx="2438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ryngeal di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951200"/>
            <a:ext cx="32004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 relaxation (Sle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 atonia (R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omuscular 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5812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pper Airw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-15264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atomical Factors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Anatomical Factor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Neuromuscular Factor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Pathophysiology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Vast majority of cases are associated with adeno-tonsillar hypertrophy (AT-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Obesity in children is a risk factor for OSAS, and the severity of OSAS is proportional to the degree of obe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Ten-Roman"/>
              </a:rPr>
              <a:t>In contrast to adults, most OSAS children are not obese (may have F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Pathophysi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Although strongly associated with AT-Ht, childhood OSAS is </a:t>
            </a:r>
            <a:r>
              <a:rPr b="1" lang="en-US" sz="2800" spc="-1" strike="noStrike">
                <a:solidFill>
                  <a:srgbClr val="000000"/>
                </a:solidFill>
                <a:latin typeface="TimesTen-Roman"/>
              </a:rPr>
              <a:t>not caused by AT-Ht alone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Ten-Roman"/>
              </a:rPr>
              <a:t>No obstruction during wakefu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Ten-Roman"/>
              </a:rPr>
              <a:t>Adenotonsillar size and OSAS are not cor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Deficit in arousal mechanis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Ten-Roman"/>
              </a:rPr>
              <a:t>Elevated arousal thresholds in response to hypercapnia and increased UA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Abnormal centrally mediated activation of UA mus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CVS – systemic and pulmonary H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Neurocognitive/behavior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F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Enur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OSAS: PSG scree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227320"/>
            <a:ext cx="155268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in E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658880"/>
            <a:ext cx="861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1200"/>
            <a:ext cx="112068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097160"/>
            <a:ext cx="2243160" cy="642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ipheral Pulse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167440"/>
            <a:ext cx="861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702400"/>
            <a:ext cx="1293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g M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235560"/>
            <a:ext cx="1293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xi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09480"/>
            <a:ext cx="86184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52680"/>
            <a:ext cx="91440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Cor-pulmonale - used to be a common presentation, but is currently r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Ten-Roman"/>
              </a:rPr>
              <a:t>When it does develop-can be reversed by 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Tal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Italic"/>
              </a:rPr>
              <a:t>Pediatr Pulmonol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, 198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Ventriculography in children who had abnormal questionnaire for OS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37%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had Rt. ventricular E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67%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had abnormal wall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 of the 11 pt who had a repeat evaluation after T&amp;A showed </a:t>
            </a:r>
            <a:r>
              <a:rPr b="1" lang="en-US" sz="2400" spc="-1" strike="noStrike">
                <a:solidFill>
                  <a:srgbClr val="000000"/>
                </a:solidFill>
                <a:latin typeface="Palatino-Roman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A “new syndrome”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64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Med” search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leep Apnea; 0-18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960’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970’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980’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6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990’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common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s significant complications w/o 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be efficiently treated in the majority of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wareness and early diagnosis and T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Shiomi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Italic"/>
              </a:rPr>
              <a:t>Chest,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 199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-Roman"/>
              </a:rPr>
              <a:t>Pulsus-paradoxus and leftward shift of the inter-ventricular septum in 3/6 children with 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Correlated with negative esophageal pressur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but not with oxygen desaturation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, reversed with CP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J Respir Crit Care Med. 2004 Apr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h ambulatory BP in children with sleep-disordered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SAS causes intermittent elevation of systemic BP during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determine whether obstructive apnea in children has a tonic effect on diurnal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SA in children is associated with 24 h BP dys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A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The Fourth Report on the Diagnosis, Evaluation, and Treatment of High Blood Pressure in Children and Adoles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National High Blood Pressure Education Progra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Working Group on High Blood Pressure in Children and Adoles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PEDIATRICS Vol. 114 No. 2 August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CV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Neuroc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gnitive &amp; Behavioral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Guilleminault, Lung, 1981</a:t>
            </a:r>
            <a:r>
              <a:rPr b="0" i="1" lang="en-US" sz="3200" spc="-1" strike="noStrike">
                <a:solidFill>
                  <a:srgbClr val="000000"/>
                </a:solidFill>
                <a:latin typeface="Palatino-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-Roman"/>
              </a:rPr>
              <a:t>50 children with OSAS (PS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84% - excessive daytime slee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76% - behavior disturb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42% - hype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16% - school performanc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Neuroc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gnitive &amp; Behaviora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Gozal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Italic"/>
              </a:rPr>
              <a:t>Pediatrics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Palatino-Roman"/>
              </a:rPr>
              <a:t> 199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297 first graders who were in the lowes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alatino-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 academically were evaluated for OSAS by questionnaire combined with home oxi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54/297 (18.1%) had positive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-Roman"/>
              </a:rPr>
              <a:t>(recommended T&amp;A)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24/54 underwent T&amp;A and improved their grading significantly, with no change in the untreated OSAS group or the non-OSA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 </a:t>
            </a: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Neuroc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gnitive &amp; Behaviora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zal D, Sleep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-related Quality of Life and Depressive Symptoms in Children with Suspected Sleep-Disordered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Narrow-Bold"/>
              </a:rPr>
              <a:t>Conclusions: </a:t>
            </a: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Children with suspected OSAS, regardless of the severity of RDI or the presence of obesity, had mo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Narrow"/>
              </a:rPr>
              <a:t>impairments in quality of life and depressive symptoms</a:t>
            </a: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 than did children who did not s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Neuroc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gnitive &amp; Behaviora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lar, Sleep, 200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 Disorders and Daytime Sleepiness in Children with AD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Of the children with ADHD, 17 (50%) had signs of OSAS, compared with 7 of the control group (22%, P &lt; .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Narrow-Bold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hildren with ADHD demonstrate objective daytime somnolence (by MSLT), which may explain the beneficial effects of Tx with stimul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Narrow"/>
              </a:rPr>
              <a:t>Primary sleep disorders, especially sleep-disordered breathing and PLMS, should be look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: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FT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TT in OSAS children and reports of growth spurt following T&amp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posed mechanis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caloric in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spha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caloric expendi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f breathing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normal GH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ed SWS, post T&amp;A - IGF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Enure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Brooks, J Pediatr,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lonTwoTwentyFour-Book"/>
              </a:rPr>
              <a:t>Children 4 y and older who had suspected OSAS were asked about enu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slonTwoTwentyFour-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lonTwoTwentyFour-Book"/>
              </a:rPr>
              <a:t>160 pt (90/70; M: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slonTwoTwentyFour-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lonTwoTwentyFour-Book"/>
              </a:rPr>
              <a:t>41% had enuresis (primary/secondary - 3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slonTwoTwentyFour-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lonTwoTwentyFour-Book"/>
              </a:rPr>
              <a:t>RDI &lt;1: significantly lower prevalence of enuresis (17  vs. 4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slonTwoTwentyFour-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lonTwoTwentyFour-Book"/>
              </a:rPr>
              <a:t>The prevalence of enuresis is associated to the OSAS severity (1-5, 5-15, or &gt;15 events per hou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EEG</a:t>
            </a:r>
            <a:br>
              <a:rPr sz="4400"/>
            </a:b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 Non-REM Sleep Stag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omplications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Palatino-Bold"/>
              </a:rPr>
              <a:t>Enure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Weid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Italic"/>
              </a:rPr>
              <a:t>Otolaryngol Head Neck Surg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199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-Roman"/>
              </a:rPr>
              <a:t>115 enuretic children undergoing T&amp;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66% and 77% reduction in enuretic nights 1m and 6 m Post-T&amp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In the group with secondary enuresis, 100% were dry 6 m Post-T&amp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StoneSans-Semibold"/>
              </a:rPr>
              <a:t>Evaluation: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Ten-Roman"/>
              </a:rPr>
              <a:t>Polysomnography</a:t>
            </a:r>
            <a:r>
              <a:rPr b="0" i="1" lang="en-US" sz="4400" spc="-1" strike="noStrike">
                <a:solidFill>
                  <a:srgbClr val="996633"/>
                </a:solidFill>
                <a:latin typeface="TimesTen-Roman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TimesTen-Roman"/>
              </a:rPr>
              <a:t>(</a:t>
            </a:r>
            <a:r>
              <a:rPr b="1" lang="en-US" sz="4400" spc="-1" strike="noStrike">
                <a:solidFill>
                  <a:srgbClr val="996633"/>
                </a:solidFill>
                <a:latin typeface="TimesTen-Italic"/>
              </a:rPr>
              <a:t>PSG)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Ten-Roman"/>
              </a:rPr>
              <a:t>PSG is the gold STD for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-Roman"/>
              </a:rPr>
              <a:t>Establishment of diagnosis and seve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Prediction of complications, particularly in the immediate Post-Op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Pre-Op baseline for Post-Op further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Ten-Roman"/>
              </a:rPr>
              <a:t>High costs and shortage of sleep labs &gt;&gt; screening techniques</a:t>
            </a:r>
            <a:r>
              <a:rPr b="1" lang="en-US" sz="36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StoneSans-Semibold"/>
              </a:rPr>
              <a:t>Evaluation: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Ten-Italic"/>
              </a:rPr>
              <a:t>Screen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Snoring audiot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ENT ex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</a:t>
            </a:r>
            <a:r>
              <a:rPr b="1" lang="en-US" sz="2800" spc="-1" strike="noStrike">
                <a:solidFill>
                  <a:srgbClr val="000000"/>
                </a:solidFill>
                <a:latin typeface="TimesTen-Roman"/>
              </a:rPr>
              <a:t>sensitivity and specif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Nocturnal Videot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Oxi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Nap-PS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Ten-Roman"/>
              </a:rPr>
              <a:t>High false-negative rate, indicative if 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StoneSans-Semibold"/>
              </a:rPr>
              <a:t>Evaluation</a:t>
            </a: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: </a:t>
            </a:r>
            <a:br>
              <a:rPr sz="4400"/>
            </a:br>
            <a:r>
              <a:rPr b="1" i="1" lang="he-IL" sz="4400" spc="-1" strike="noStrike">
                <a:solidFill>
                  <a:srgbClr val="996633"/>
                </a:solidFill>
                <a:latin typeface="Palatino-Bold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Pulse Oximetr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Brouillett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Italic"/>
              </a:rPr>
              <a:t>Pediatrics,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 200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-Roman"/>
              </a:rPr>
              <a:t>349 children, pulse oximetry during PS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OSAS prevalence – 60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PPV - 97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NPV - 5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Treatment: </a:t>
            </a:r>
            <a:br>
              <a:rPr sz="4400"/>
            </a:br>
            <a:r>
              <a:rPr b="1" i="1" lang="he-IL" sz="4400" spc="-1" strike="noStrike">
                <a:solidFill>
                  <a:srgbClr val="996633"/>
                </a:solidFill>
                <a:latin typeface="Palatino-Bold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T&amp;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Tonsillectomy with or w/o adenoidectomy is efficient Tx for 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Clinical improvement of symptoms and post-Op complications: CVS, neurocognitive, enuresis,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Suen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alatino-Italic"/>
              </a:rPr>
              <a:t>Arch Otolaryngol Head Neck Surg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alatino-Roman"/>
              </a:rPr>
              <a:t>1995: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69 with susp OSAS had PSG, 35/69 had RDI &gt; 5 and referred for T&amp;A, 30/35 had T&amp;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26/30 had follow-up P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-Roman"/>
              </a:rPr>
              <a:t>Cure rate 8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-Roman"/>
              </a:rPr>
              <a:t>Post-Op snoring: NPV - 100%, and PPV - </a:t>
            </a:r>
            <a:r>
              <a:rPr b="0" lang="en-US" sz="2200" spc="-1" strike="noStrike">
                <a:solidFill>
                  <a:srgbClr val="000000"/>
                </a:solidFill>
                <a:latin typeface="Universal-GreekwithMathP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alatino-Roman"/>
              </a:rPr>
              <a:t>5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-Roman"/>
              </a:rPr>
              <a:t>A high Pre-Op RDI (&gt;19) was a strong predictor of abnormal Post-Op residual abnorm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Palatino-Bold"/>
              </a:rPr>
              <a:t>Treatment: </a:t>
            </a:r>
            <a:br>
              <a:rPr sz="4400"/>
            </a:br>
            <a:r>
              <a:rPr b="1" i="1" lang="he-IL" sz="4400" spc="-1" strike="noStrike">
                <a:solidFill>
                  <a:srgbClr val="996633"/>
                </a:solidFill>
                <a:latin typeface="Palatino-Bold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T&amp;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Nieminen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Italic"/>
              </a:rPr>
              <a:t>Arch Otolaryngol Head Neck Sur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Palatino-Roman"/>
              </a:rPr>
              <a:t>. 200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95% cure rate for a group of 21 children after T&amp;A or tonsill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Postoperative snoring NPV 100%, PPV </a:t>
            </a:r>
            <a:r>
              <a:rPr b="0" lang="en-US" sz="2800" spc="-1" strike="noStrike">
                <a:solidFill>
                  <a:srgbClr val="000000"/>
                </a:solidFill>
                <a:latin typeface="Universal-GreekwithMathP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73% of this group had a previous adenoidectomy, indicating the lack of efficacy of adenoidectomy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Ten-Roman"/>
              </a:rPr>
              <a:t>Treatment: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Ten-Roman"/>
              </a:rPr>
              <a:t>T&amp;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Post-Op respiratory compromise (</a:t>
            </a: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16-27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Upper airway ed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Increased secre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Respiratory depression –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Ten-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 to analgesic/anesthetic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Age &lt;3 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severe 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Children with additional med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Ten-Roman"/>
              </a:rPr>
              <a:t>Treatment: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Ten-Roman"/>
              </a:rPr>
              <a:t>T&amp;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Ten-Roman"/>
              </a:rPr>
              <a:t>Follow-up PSG</a:t>
            </a:r>
            <a:r>
              <a:rPr b="0" lang="en-US" sz="3200" spc="-1" strike="noStrike">
                <a:solidFill>
                  <a:srgbClr val="000000"/>
                </a:solidFill>
                <a:latin typeface="TimesTen-Roman"/>
              </a:rPr>
              <a:t> (6–8 wk Post-Op) , to ensure that additional Tx is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Children with additional 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Children with a Pre-Op high R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Palatino-Italic"/>
              </a:rPr>
              <a:t>Other Tx alternativ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Uvulopharyngopalatoplasty (UPPP):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in CP pt and hypotonic upper airway muscles; it has not been studied in the uncomplicated pediatric 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Ten-Roman"/>
              </a:rPr>
              <a:t>Oral appliances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has not been reported in children (it may adversely affect the facial configuration of the growing chi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In children, CPAP is usually used when T&amp;A is unsuccessful or contraindicated rather than as a primary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condi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Ten-Roman"/>
              </a:rPr>
              <a:t>Treatment: Oxyge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Improved oxygenation during sleep, w/o obstruction wors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Ten-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Few individuals show marked increase in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Ten-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With no apparent predictive factors for which pt would develop hypercap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Oxygen should never be administered w/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Ten-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measuring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Ten-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Oxygen does not address many of the associated pathophysiological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EEG</a:t>
            </a:r>
            <a:br>
              <a:rPr sz="4400"/>
            </a:b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REM sleep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849320"/>
            <a:ext cx="769608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70280" y="2590560"/>
            <a:ext cx="756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leep physi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9051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4343400"/>
            <a:ext cx="9143640" cy="2514600"/>
            <a:chOff x="0" y="4343400"/>
            <a:chExt cx="9143640" cy="25146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0" y="4343400"/>
              <a:ext cx="91436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92160" y="4923000"/>
              <a:ext cx="1173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0" y="0"/>
          <a:ext cx="9144000" cy="4314960"/>
        </p:xfrm>
        <a:graphic>
          <a:graphicData uri="http://schemas.openxmlformats.org/drawingml/2006/table">
            <a:tbl>
              <a:tblPr/>
              <a:tblGrid>
                <a:gridCol w="1539720"/>
                <a:gridCol w="1251000"/>
                <a:gridCol w="1476360"/>
                <a:gridCol w="487692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OG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T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k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/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x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63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3-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S”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x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sm , GH secre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-sympathetic predominan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3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x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ni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ams, Mental, Memory 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pathetic predominance (MI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ile- erec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24"/>
                        </a:spcBef>
                        <a:buClr>
                          <a:srgbClr val="996633"/>
                        </a:buClr>
                        <a:buSzPct val="95000"/>
                        <a:buFont typeface="Wingdings" charset="2"/>
                        <a:buChar char="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-Related O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172200" y="3429000"/>
            <a:ext cx="297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lassif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ne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Greek word - “want of breat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stru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/p the Greeks describe obstructiv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lassif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Ten-Roman"/>
              </a:rPr>
              <a:t>Respiratory Disturbance Index (R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Ten-Roman"/>
              </a:rPr>
              <a:t>Normal value &lt;1-2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Ten-Roman"/>
              </a:rPr>
              <a:t>per hour of 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pn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airflow cessa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Ten-Roman"/>
              </a:rPr>
              <a:t>2 respiratory cycle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popn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irflow reduc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Ten-Roman"/>
              </a:rPr>
              <a:t>2 respiratory cycle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iratory Effort Related Arousal (RER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limitation with associated arous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pper Airways Resistance Syndro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rmal oxygen sa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Epidemi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Ten-Roman"/>
              </a:rPr>
              <a:t>Prevalence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OSAS: 1-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Primary snoring (PS): 3-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Ten-Roman"/>
              </a:rPr>
              <a:t>Gender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M/F ratio 1:1 </a:t>
            </a:r>
            <a:r>
              <a:rPr b="0" i="1" lang="en-US" sz="2400" spc="-1" strike="noStrike">
                <a:solidFill>
                  <a:srgbClr val="000000"/>
                </a:solidFill>
                <a:latin typeface="TimesTen-Roman"/>
              </a:rPr>
              <a:t>(Adults: male predominance)</a:t>
            </a: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Ten-Roman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From neonates to adolesc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Commonest in preschool children (2-5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Ten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Ten-Roman"/>
              </a:rPr>
              <a:t>(Peak incidence of adenotonsillar hypertro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Ten-Roman"/>
              </a:rPr>
              <a:t>Race:</a:t>
            </a:r>
            <a:r>
              <a:rPr b="0" lang="en-US" sz="2800" spc="-1" strike="noStrike">
                <a:solidFill>
                  <a:srgbClr val="000000"/>
                </a:solidFill>
                <a:latin typeface="TimesTen-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Ten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Ten-Roman"/>
              </a:rPr>
              <a:t>More common in African-American children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Nocturnal present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th brea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less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3:09:34Z</dcterms:created>
  <dc:creator>רונית לוסקי</dc:creator>
  <dc:description/>
  <dc:language>en-US</dc:language>
  <cp:lastModifiedBy>user</cp:lastModifiedBy>
  <dcterms:modified xsi:type="dcterms:W3CDTF">2005-09-05T06:56:26Z</dcterms:modified>
  <cp:revision>279</cp:revision>
  <dc:subject/>
  <dc:title>Sleep Apnea Syndrome</dc:title>
</cp:coreProperties>
</file>