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4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8F7-A66D-4632-90BC-BE243B31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7AC-FBE1-4F8B-BA80-0D75BD38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88B-A1B7-4DF1-9C79-5CACB911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A2F-ECDE-45B7-9BD6-5134200D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57F9-9540-4612-B2B7-41DB22F2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4378-50CF-493B-A862-111D85C6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C9CE-0D4D-4437-A4B5-B5D48DA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5A4F-9F1E-49ED-9232-838C0B10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EEF-7C21-464F-86FD-463AD939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F08-0DC8-4BA9-AD66-ED115550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1FB5-F362-45D2-9971-E5A677EE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5FF-EED1-4D43-92C9-F637772B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7CD1-B2AE-492D-9546-D5B5BCD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F964-DBE6-4BB0-B837-F43A4CD6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3329-90CF-4F31-81B7-8D50B682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986-DF71-4D6E-93F0-46DDEFF7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E155-5E6E-45E8-B38D-7739138B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D91-87A0-422E-9795-5D7F4CF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9AE-8EE4-4B9B-8BFD-6D1980DB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E6D-3FC7-401B-8590-2AD96A79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29F-0464-4B09-B1F2-FB492C1B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EFF-EAD3-46F7-9AFB-28ADACB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BC5-96C1-4A88-9E8F-F757BD4A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6AE-F194-4E0D-B397-74D220BE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741F-5528-45AC-A83C-C9005A67CE98}" type="slidenum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480" y="6480"/>
            <a:ext cx="9118440" cy="6832440"/>
            <a:chOff x="6480" y="6480"/>
            <a:chExt cx="9118440" cy="6832440"/>
          </a:xfrm>
        </p:grpSpPr>
        <p:grpSp>
          <p:nvGrpSpPr>
            <p:cNvPr id="6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7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10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131760" y="6039000"/>
              <a:ext cx="444600" cy="444240"/>
              <a:chOff x="131760" y="6039000"/>
              <a:chExt cx="444600" cy="444240"/>
            </a:xfrm>
          </p:grpSpPr>
          <p:sp>
            <p:nvSpPr>
              <p:cNvPr id="13" name=""/>
              <p:cNvSpPr/>
              <p:nvPr/>
            </p:nvSpPr>
            <p:spPr>
              <a:xfrm>
                <a:off x="131760" y="6039000"/>
                <a:ext cx="444600" cy="444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33280" y="614052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16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19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6559560" y="6102360"/>
              <a:ext cx="673200" cy="673200"/>
              <a:chOff x="6559560" y="6102360"/>
              <a:chExt cx="673200" cy="673200"/>
            </a:xfrm>
          </p:grpSpPr>
          <p:sp>
            <p:nvSpPr>
              <p:cNvPr id="22" name=""/>
              <p:cNvSpPr/>
              <p:nvPr/>
            </p:nvSpPr>
            <p:spPr>
              <a:xfrm>
                <a:off x="6559560" y="6102360"/>
                <a:ext cx="67320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6711840" y="62546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6178680" y="6407280"/>
              <a:ext cx="368280" cy="368280"/>
              <a:chOff x="6178680" y="6407280"/>
              <a:chExt cx="368280" cy="368280"/>
            </a:xfrm>
          </p:grpSpPr>
          <p:sp>
            <p:nvSpPr>
              <p:cNvPr id="25" name=""/>
              <p:cNvSpPr/>
              <p:nvPr/>
            </p:nvSpPr>
            <p:spPr>
              <a:xfrm>
                <a:off x="6178680" y="64072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262560" y="64911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7245360" y="6102360"/>
              <a:ext cx="368280" cy="368280"/>
              <a:chOff x="7245360" y="6102360"/>
              <a:chExt cx="368280" cy="368280"/>
            </a:xfrm>
          </p:grpSpPr>
          <p:sp>
            <p:nvSpPr>
              <p:cNvPr id="28" name=""/>
              <p:cNvSpPr/>
              <p:nvPr/>
            </p:nvSpPr>
            <p:spPr>
              <a:xfrm>
                <a:off x="7245360" y="61023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329600" y="6186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31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34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78080" y="6480"/>
              <a:ext cx="520560" cy="520560"/>
              <a:chOff x="1378080" y="6480"/>
              <a:chExt cx="520560" cy="520560"/>
            </a:xfrm>
          </p:grpSpPr>
          <p:sp>
            <p:nvSpPr>
              <p:cNvPr id="37" name=""/>
              <p:cNvSpPr/>
              <p:nvPr/>
            </p:nvSpPr>
            <p:spPr>
              <a:xfrm>
                <a:off x="1378080" y="64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495440" y="1238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1911240" y="158760"/>
              <a:ext cx="368280" cy="368280"/>
              <a:chOff x="1911240" y="158760"/>
              <a:chExt cx="368280" cy="368280"/>
            </a:xfrm>
          </p:grpSpPr>
          <p:sp>
            <p:nvSpPr>
              <p:cNvPr id="40" name=""/>
              <p:cNvSpPr/>
              <p:nvPr/>
            </p:nvSpPr>
            <p:spPr>
              <a:xfrm>
                <a:off x="1911240" y="1587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95480" y="2430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480" y="615960"/>
            <a:ext cx="9118440" cy="6222960"/>
            <a:chOff x="6480" y="615960"/>
            <a:chExt cx="9118440" cy="6222960"/>
          </a:xfrm>
        </p:grpSpPr>
        <p:grpSp>
          <p:nvGrpSpPr>
            <p:cNvPr id="79" name=""/>
            <p:cNvGrpSpPr/>
            <p:nvPr/>
          </p:nvGrpSpPr>
          <p:grpSpPr>
            <a:xfrm>
              <a:off x="6480" y="5340240"/>
              <a:ext cx="672840" cy="673200"/>
              <a:chOff x="6480" y="5340240"/>
              <a:chExt cx="672840" cy="673200"/>
            </a:xfrm>
          </p:grpSpPr>
          <p:sp>
            <p:nvSpPr>
              <p:cNvPr id="80" name=""/>
              <p:cNvSpPr/>
              <p:nvPr/>
            </p:nvSpPr>
            <p:spPr>
              <a:xfrm>
                <a:off x="6480" y="534024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8760" y="5492880"/>
                <a:ext cx="10008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39640" y="5873760"/>
              <a:ext cx="292320" cy="291960"/>
              <a:chOff x="539640" y="5873760"/>
              <a:chExt cx="292320" cy="291960"/>
            </a:xfrm>
          </p:grpSpPr>
          <p:sp>
            <p:nvSpPr>
              <p:cNvPr id="83" name=""/>
              <p:cNvSpPr/>
              <p:nvPr/>
            </p:nvSpPr>
            <p:spPr>
              <a:xfrm>
                <a:off x="539640" y="5873760"/>
                <a:ext cx="292320" cy="291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6600" y="5940360"/>
                <a:ext cx="378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151680" y="5734080"/>
              <a:ext cx="444240" cy="444600"/>
              <a:chOff x="6151680" y="5734080"/>
              <a:chExt cx="444240" cy="444600"/>
            </a:xfrm>
          </p:grpSpPr>
          <p:sp>
            <p:nvSpPr>
              <p:cNvPr id="86" name=""/>
              <p:cNvSpPr/>
              <p:nvPr/>
            </p:nvSpPr>
            <p:spPr>
              <a:xfrm>
                <a:off x="6151680" y="5734080"/>
                <a:ext cx="444240" cy="444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3200" y="5835600"/>
                <a:ext cx="619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476440" y="6470640"/>
              <a:ext cx="368280" cy="368280"/>
              <a:chOff x="2476440" y="6470640"/>
              <a:chExt cx="368280" cy="368280"/>
            </a:xfrm>
          </p:grpSpPr>
          <p:sp>
            <p:nvSpPr>
              <p:cNvPr id="89" name=""/>
              <p:cNvSpPr/>
              <p:nvPr/>
            </p:nvSpPr>
            <p:spPr>
              <a:xfrm>
                <a:off x="2476440" y="64706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60680" y="65548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480" y="4425840"/>
              <a:ext cx="368280" cy="368280"/>
              <a:chOff x="6480" y="4425840"/>
              <a:chExt cx="368280" cy="368280"/>
            </a:xfrm>
          </p:grpSpPr>
          <p:sp>
            <p:nvSpPr>
              <p:cNvPr id="92" name=""/>
              <p:cNvSpPr/>
              <p:nvPr/>
            </p:nvSpPr>
            <p:spPr>
              <a:xfrm>
                <a:off x="6480" y="442584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360" y="451008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492880" y="615960"/>
              <a:ext cx="672840" cy="673200"/>
              <a:chOff x="5492880" y="615960"/>
              <a:chExt cx="672840" cy="673200"/>
            </a:xfrm>
          </p:grpSpPr>
          <p:sp>
            <p:nvSpPr>
              <p:cNvPr id="95" name=""/>
              <p:cNvSpPr/>
              <p:nvPr/>
            </p:nvSpPr>
            <p:spPr>
              <a:xfrm>
                <a:off x="5492880" y="615960"/>
                <a:ext cx="672840" cy="673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45160" y="768240"/>
                <a:ext cx="10008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111640" y="920880"/>
              <a:ext cx="368280" cy="368280"/>
              <a:chOff x="5111640" y="920880"/>
              <a:chExt cx="368280" cy="368280"/>
            </a:xfrm>
          </p:grpSpPr>
          <p:sp>
            <p:nvSpPr>
              <p:cNvPr id="98" name=""/>
              <p:cNvSpPr/>
              <p:nvPr/>
            </p:nvSpPr>
            <p:spPr>
              <a:xfrm>
                <a:off x="5111640" y="9208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95880" y="10047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178680" y="615960"/>
              <a:ext cx="368280" cy="368280"/>
              <a:chOff x="6178680" y="615960"/>
              <a:chExt cx="36828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178680" y="61596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2560" y="700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604360" y="1808280"/>
              <a:ext cx="520560" cy="520560"/>
              <a:chOff x="8604360" y="1808280"/>
              <a:chExt cx="520560" cy="520560"/>
            </a:xfrm>
          </p:grpSpPr>
          <p:sp>
            <p:nvSpPr>
              <p:cNvPr id="104" name=""/>
              <p:cNvSpPr/>
              <p:nvPr/>
            </p:nvSpPr>
            <p:spPr>
              <a:xfrm>
                <a:off x="8604360" y="1808280"/>
                <a:ext cx="520560" cy="520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23160" y="1927080"/>
                <a:ext cx="74880" cy="74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693280" y="2521080"/>
              <a:ext cx="215640" cy="215640"/>
              <a:chOff x="8693280" y="2521080"/>
              <a:chExt cx="215640" cy="215640"/>
            </a:xfrm>
          </p:grpSpPr>
          <p:sp>
            <p:nvSpPr>
              <p:cNvPr id="107" name=""/>
              <p:cNvSpPr/>
              <p:nvPr/>
            </p:nvSpPr>
            <p:spPr>
              <a:xfrm>
                <a:off x="8693280" y="25210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744040" y="2571840"/>
                <a:ext cx="2520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225440" y="1225440"/>
              <a:ext cx="520920" cy="520920"/>
              <a:chOff x="1225440" y="1225440"/>
              <a:chExt cx="520920" cy="52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1225440" y="1225440"/>
                <a:ext cx="520920" cy="5209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43160" y="1343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758960" y="1378080"/>
              <a:ext cx="368280" cy="368280"/>
              <a:chOff x="1758960" y="1378080"/>
              <a:chExt cx="36828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758960" y="1378080"/>
                <a:ext cx="368280" cy="3682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43200" y="1461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9869-242D-4E3C-B339-1C7B94834E4D}" type="slidenum">
              <a:rPr b="0" lang="he-I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es.google.co.il/imgres?imgurl=http://renux.dmed.ed.ac.uk/EdREN/EdRenINFObits/nephroticpic.100-0034_IMG.JPG&amp;imgrefurl=http://renux.dmed.ed.ac.uk/EdREN/EdRenINFObits/NephroticLong.html&amp;h=284&amp;w=350&amp;sz=37&amp;tbnid=-wJV9a9Av9-9aM:&amp;tbnh=94&amp;tbnw=116&amp;hl=iw&amp;start=17&amp;prev=/images%3Fq%3Dnephrotic%2Bsyndrome%26svnum%3D10%26hl%3Diw%26lr%3D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images.google.co.il/imgres?imgurl=http://weebs.org/weeberworld/kidney/images/kidney-how-it-works.jpg&amp;imgrefurl=http://weebs.org/weeberworld/kidney/&amp;h=234&amp;w=171&amp;sz=21&amp;tbnid=ANAZVVLtfXA1GM:&amp;tbnh=104&amp;tbnw=76&amp;hl=iw&amp;start=36&amp;prev=/images%3Fq%3Dkidney%26start%3D20%26svnum%3D10%26hl%3Diw%26lr%3D%26sa%3DN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athology.vcu.edu/education/renal/images/dc-11.jpg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42920" y="4437000"/>
            <a:ext cx="4878360" cy="22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ד"ר אירית וייסמן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מנהלת מחלקת נפרולוגית ילדי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בית החולים  נהריה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פגיעה במרקם הכלי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אבחנה האולטרה-סונוגרפית</a:t>
            </a: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ות תקינות/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היפראקוגניות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ליות פוליציסטיות/ציסטיות</a:t>
            </a:r>
            <a:r>
              <a:rPr b="1" i="1" lang="he-IL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נזק מבעיה חסימתי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Glomerulo-cystic diseas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תסמונת נפרוטית מולד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057400" y="4800600"/>
          <a:ext cx="2133720" cy="205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4800600"/>
                    <a:ext cx="21337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" y="2514600"/>
          <a:ext cx="3200400" cy="1771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2514600"/>
                    <a:ext cx="32004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ליה מולטיציסטי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143000" y="1467000"/>
          <a:ext cx="6781680" cy="5086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67000"/>
                    <a:ext cx="6781680" cy="50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דרונפרו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 u="sng">
                <a:solidFill>
                  <a:srgbClr val="990000"/>
                </a:solidFill>
                <a:uFillTx/>
                <a:latin typeface="Times New Roman"/>
              </a:rPr>
              <a:t>הגדרה :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990000"/>
                </a:solidFill>
                <a:latin typeface="Times New Roman"/>
              </a:rPr>
              <a:t>התרחבות אגן כליה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עובר מיצר באופן קבוע ותמידי שתן כדי לשמור על נפח מי השפיר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בד"כ אגן הכליה &lt;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"מ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66cc"/>
                </a:solidFill>
                <a:latin typeface="Arial"/>
                <a:ea typeface="Arial"/>
              </a:rPr>
              <a:t> </a:t>
            </a:r>
            <a:r>
              <a:rPr b="1" i="1" lang="he-IL" sz="2800" spc="-1" strike="noStrike">
                <a:solidFill>
                  <a:srgbClr val="990000"/>
                </a:solidFill>
                <a:latin typeface="Arial"/>
                <a:cs typeface="Arial"/>
              </a:rPr>
              <a:t>הידרונפרוזיס : אגן &gt; </a:t>
            </a:r>
            <a:r>
              <a:rPr b="1" i="1" lang="he-IL" sz="2800" spc="-1" strike="noStrike">
                <a:solidFill>
                  <a:srgbClr val="990000"/>
                </a:solidFill>
                <a:latin typeface="Arial"/>
                <a:ea typeface="Arial"/>
              </a:rPr>
              <a:t>10</a:t>
            </a:r>
            <a:r>
              <a:rPr b="1" i="1" lang="he-IL" sz="2800" spc="-1" strike="noStrike">
                <a:solidFill>
                  <a:srgbClr val="990000"/>
                </a:solidFill>
                <a:latin typeface="Arial"/>
                <a:ea typeface="Arial"/>
              </a:rPr>
              <a:t> מ"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2280" y="2514600"/>
          <a:ext cx="308952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514600"/>
                    <a:ext cx="3089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276720" y="3886200"/>
          <a:ext cx="2743200" cy="266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3886200"/>
                    <a:ext cx="274320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477120" y="3886200"/>
          <a:ext cx="2438280" cy="281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3886200"/>
                    <a:ext cx="24382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דרונפרו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ות דיספלסטיות בלי התרחבות השופכ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יצרות באזור ההשקה בין אגן הכליה לשופכן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PJ STENOSIS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). ללא הרחבת שופכ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יצרות באזור כניסת השופכן לשלחוף השתן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VJ STENOSIS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.עם הרחבת שופכ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רפלוקס מהשלפוחית "למעלה" לכליה (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UR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חסימה במוצא השלפוחית : בד"כ מלווה בהרחב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דו"צ  של השופכנים ושל שני אגנוני הכליה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OSTETIOR URETERAL VALV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דרכי השתן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68000" y="184464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4895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דרונפרו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שכיחות ההידרונפרוזיס לפי הקבוצה מבריסטול שבדקה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8766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נשים הרות . ההגדרה של הידרונפרוזיס אצלם הייתה הרחבת אגן &gt;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. נמצאו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לודים =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0.59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, הידרונפרוזיס דו"צ נמצא ב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46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עבודה פרוספקטיבית נוספת של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trok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דקה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6292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נשים. הגדרה של הידרונפרוזיס הייתה אגן &gt;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.הממצאים היו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92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לודים =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0.65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ידת ההידרונפרוזיס, גודל הכליות, עובי הפרנכימה ,הרחבת שופכנים, הרחבת שלפוחית השתן , וכמות מי השפיר הם המדדים העוזרים לנו לתת את היעוץ הטרום לידת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דרונפרו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8088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990000"/>
                </a:solidFill>
                <a:latin typeface="Times New Roman"/>
              </a:rPr>
              <a:t>הסבירות כי לילוד תהיה בעיה כלייתית משמעותית לאחר הלידה  היא ביחס ישר לחומרת ההידרונפרוזי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רחבה &gt;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"מ אזי ל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94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הילודים תהייה בעיה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משמעותית עם אפשרות של צורך בהתערבות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כירורגית. בד"כ מדובר ב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UPJ stenosi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רחבה בין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10-15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"מ - רק ב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הילודים נמצ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 בעיה אנטומית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רחבה&lt;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"מ :רק ב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3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נמצא פגם אנטומי, בד"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רפלוק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עיתים ההידרונפרוזיס לא יודגם בעק"ג  ה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אח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  הליד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בחון טרום לידת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62120" y="10663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דוע כי ב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הילודים עם הידרונפרוזיס קשה נמצא מומים נלווים בדרכי השת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ידרונפרוזיס יכול גם להיות חלק מתסמונות שונות ב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תוארו &gt;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וטציות גנטיות וכרומוזומליות בהן יש גם עדות להידרונפרוזי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נומליות נלוות להידרונפרוזיס  יכולות להיות מומי לב מולדים, ואנומליות נוירולוגיות , וגרמי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POSTERIOR URETHRAL VALV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97040" y="1752480"/>
          <a:ext cx="77025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752480"/>
                    <a:ext cx="7702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POSTETIOR URETHRAL VALV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00200" y="1752480"/>
          <a:ext cx="5943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5943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118040" cy="4221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mouse puppets for genetics"/>
          <p:cNvPicPr/>
          <p:nvPr/>
        </p:nvPicPr>
        <p:blipFill>
          <a:blip r:embed="rId2"/>
          <a:stretch/>
        </p:blipFill>
        <p:spPr>
          <a:xfrm>
            <a:off x="3924360" y="2637000"/>
            <a:ext cx="4584600" cy="422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-360" y="-360"/>
            <a:ext cx="9325080" cy="698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68360" y="476280"/>
            <a:ext cx="8675640" cy="17287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המפגש  בין  הגנטיקה  והכליה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POSTETIOR URETHRAL VALV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490840" y="1752480"/>
          <a:ext cx="4086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752480"/>
                    <a:ext cx="4086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דיספלזיה  כלייתי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8483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גוון מצבים : מאגנזיס של כליה= לא נוצרה כליה. אם  שתי הכליות לא נוצרו                    </a:t>
            </a:r>
            <a:r>
              <a:rPr b="1" i="1" lang="he-IL" sz="3200" spc="-1" strike="noStrike">
                <a:solidFill>
                  <a:srgbClr val="990000"/>
                </a:solidFill>
                <a:latin typeface="Times New Roman"/>
              </a:rPr>
              <a:t>תסמונת פוט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גנזיס של כליה אח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קשה יותר לאבח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1828800"/>
            <a:ext cx="1371600" cy="304920"/>
          </a:xfrm>
          <a:prstGeom prst="leftArrow">
            <a:avLst>
              <a:gd name="adj1" fmla="val 50000"/>
              <a:gd name="adj2" fmla="val 112456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62120" y="2209680"/>
          <a:ext cx="39621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09680"/>
                    <a:ext cx="3962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גנזיס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סיכון בהשנות אגנזיס דו"צ הוא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, אך יכול להגיע לכדי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מקרים בהם האגנזיס הוא חלק מאנומליות אנטומיות נוספ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רבית המקרים של אגנזיס דו"צ הם ספורד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פקטורים גנטים הם בעלי חשיבות בפתוגנזה של אגנזיס של כל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ישנה שכיחות יתר במשפחות .לנו ישנה משפחה ערבית מוסלמית עם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לדים אשר נולדו עם תסמונת פוטר, ילד אחד עם כליה דיספלסטית וחייך שסוע ובת נוספת עם מחלת כליה פרנכימתות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גנזיס דו"צ  גורם לתסמונת פוט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גנזיס של כליה מלווה ב : אנומליות קרדיו-וסקולאריות: טטראלוגיה ע"ש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allot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SD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ומים במערכת המוסקולו-סקליטאלית: סירנומליה, חסר של רדיוס,פיבולה, מומי אצבע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ומים במערכת העיכול: אטרזיה בתריסריון, פיסטולה טרכיאואזופאגיאלית, אומפלוצל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נומליות כרומוזומליות: טריסומיה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ו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.תסמונת טרנ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בחון טרום לידתי של אגנזיס של כלי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ליה מולטי-ציסטית דיספלסטי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ליה גדולה,חסרת תפקוד, כל הפרנכימה מורכבת מציסטות בגדלים שונ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בד"כ חד צדדיות ( דו"צ –גורמות למוות תוך רחמי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לעיתים נלווית אטרזיה של השופכן בצד הפגוע, או בעיה חסימתית קש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ליה מולטיציסטית-דיספלסטית יכולה לעבור רגרסיה ולהעלם במהלך ההריון. מאידך יכולה גם לגדול למימדי ענ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CYSTIC RENAL DISEAS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ילד </a:t>
            </a:r>
            <a:r>
              <a:rPr b="1" i="1" lang="en-US" sz="3200" spc="-1" strike="noStrike" u="sng">
                <a:solidFill>
                  <a:srgbClr val="ff66cc"/>
                </a:solidFill>
                <a:uFillTx/>
                <a:latin typeface="Times New Roman"/>
              </a:rPr>
              <a:t>I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עם כליה מולטיציסטית דיספלסטית משמאל   וכליה ימנית עם ציסטיק דיספלזיה עם הרחבה נכרת של השופכן מימין- בהדמייה רפלוקס דרגה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ימין.לילד הפרעה קלה בתפקודי כל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66cc"/>
                </a:solidFill>
                <a:latin typeface="Times New Roman"/>
              </a:rPr>
              <a:t>הריון 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II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:שתי כליות מולטיציסטיות דיספלסטיות ומיעוט ניכר של מי שפיר.- האשה עברה הפסקת הריון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בדיקה של ההורים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: אמא בריאה עם שתי כליות תקינות. לאבא שתי כליות קטנות עם מספר ציסטות קורטיקליות. מספר כי כל החיים מרבה להטיל שת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ליה מולטיציסטית דיספלסטי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7150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CYSTIC RENAL DISEAS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0456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 הריון </a:t>
            </a:r>
            <a:r>
              <a:rPr b="1" i="1" lang="en-US" sz="3200" spc="-1" strike="noStrike" u="sng">
                <a:solidFill>
                  <a:srgbClr val="ff66cc"/>
                </a:solidFill>
                <a:uFillTx/>
                <a:latin typeface="Times New Roman"/>
              </a:rPr>
              <a:t>III</a:t>
            </a: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: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מות מי השפיר תקינה. הרחבה קלה של שני השופכנים והרחבה של שני אגנוני הכליה, כליות היפראקוגניות  וחשד לציסטות בתוכן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 u="sng">
                <a:solidFill>
                  <a:srgbClr val="ff66cc"/>
                </a:solidFill>
                <a:uFillTx/>
                <a:latin typeface="Times New Roman"/>
              </a:rPr>
              <a:t>לאחר הלידה :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בחנה של ציסטיק דיספלזיה דו"צ. עם הפרעה בתפקודי כל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בחנה מבדלת היא :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GLOMERULOCYSTIC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DISEAS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–אבחנה היסטולוגית . המתייצגת בחיים התוך רחמיים :ככליות גדולות מאד ,היפראקואיות  (דומות לכליות פוליציסטיות ). בד"כ מהוות חלק מתסמונת- יש לבצע בדיקת מי שפיר וכרומוזומ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CYSTIC RENAL DYSPLASIA 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23920" y="1752480"/>
          <a:ext cx="69706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752480"/>
                    <a:ext cx="69706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cc"/>
                </a:solidFill>
                <a:latin typeface="Times New Roman"/>
              </a:rPr>
              <a:t>POLYCYSTIC KIDNEY DISEASE</a:t>
            </a:r>
            <a:endParaRPr b="0" lang="en-US" sz="40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ות פוליציסטיות תורשתיות מתגלות לעייתים קרובות טרום-ליד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קיימות שתי צורות 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RPKD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(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fsntile typ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 ADPKD) 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dult type )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שתיהן יכולות להתגלות כבר ב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8-2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66cc"/>
                </a:solidFill>
                <a:uFillTx/>
                <a:latin typeface="Times New Roman"/>
              </a:rPr>
              <a:t>ARPKD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: שתי כליות גדולות מאד היפראקואיות עם  מיעוט מי שפיר –בד"כ נלווית א"ס נשימתית ותמותה עובר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צורות הקלות יותר  הכליות פחות גדולות עם ציסטות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-2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קוטר , יש מיעוט קל של מי שפי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תיאור מקר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אשה ב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שנים הריון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שבוע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: ממצא של כליה ימנית היפראקוגנית – חשד לכליה פוליציסטית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ממצא מודגש עוד יותר בשבוע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זוג מופנה לביצוע עק"ג כליות בשאלה של ציסטות בכליה, אצל האבא מתגלו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ציסטות –ציסטה לכל כליה. אין אנמנזה משפחתית של מחלות כלי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סבים והסבתות ג"כ מבצעים עק"ג כלייתי ואצל הסבא מצד האב מתגלות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ציסטות בכליה אחת (איש בן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זוג מחשש כי מדובר ב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PKD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פונה לוועדה להפסקת הריון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לאחר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ישיבות עם הצוות  החלטנו לשכנע את השניים להמשיך את ההריון בידיעה כי קרוב לוודאי מדובר ב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cystic dysplastic kidne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 חד צדדית והכליה השנייה בריאה לחלוטין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imes New Roman"/>
              </a:rPr>
              <a:t>האבחנה אושרה לאחר הליד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Polycystic kidney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Autosomal dominant polycystic kidney diseas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שכיחות : פי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יותר מאשר הצורה הרצסיבי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ישנם ילדים המייצגים כבר תוך רחמית. תמונה זהה לצורה הרצסיבית.  הפרוגנוזה: גרועה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במקרים בהם נראה כליות תקינות עם ציסטה אחת  או שתיים וכמות מי שפיר תקינה- הפרוגנוזה יותר טובה. ?!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הילדים יגיעו לאס"כ בעשור ה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חייה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חשוב להבדיל בין 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2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 הצורות בגלל הסיכון להישנות בצורה הרצסיבית: 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25%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 ואילו בדומיננטית : 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50%</a:t>
            </a:r>
            <a:r>
              <a:rPr b="1" i="1" lang="he-IL" sz="2800" spc="-1" strike="noStrike">
                <a:solidFill>
                  <a:srgbClr val="ff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מצא של שתי כליות גדולות היפראקוגניות מחייב לבצע עק"ג להורים. (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קרים שלנו שחשבנו כי מדובר ב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RPK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היו למעשה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DPK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אחד ההורים היו ציסטת כלייתיות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Autosomal dominant polycystic kidney diseas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הסיבה מדוע חלק מהחולים יהיו עם ציסטות בילדות  אך יאובחנו רק  מאוחר &gt;גיל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שנהואילו אחרים עם אותה מחלה יתייצגו כבר בחיים התוך רחמיים לא ברור?!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אחת ההנחות היא כי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K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1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ו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K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הם הגנים האחראים ליצירת הציסטות אך כנראה ישנם "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odifier genes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" הקובעים את קצב התהוות הציסטות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כן לא ניתן לצפות פרוגנוזה בילדים אלו .למעט בקבוצה המתייצגת עם שתי כליות מאד גדולות ומיעוט מי שפיר &lt; שבוע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uberous sclerosis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ג"כ נכנס  ל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(יש לחפש מרקרים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לבביים ומוחיים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מות מי השפיר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פולי-הידרמניוס= ריבוי מי שפיר יכול להיות כאשר העובר פוליאורי,או פגם בספיגת  מי השפיר בילוד עם בעיות במערכת העיכול-אטרז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תוצאה העיקרית של מיעוט מי-שפיר היא פגיעה ריאתית עם היפופלזיה של הריאו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מצבים של הידרונפרוזיס קשה דו"צ &gt;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של אגני הכליה, יש לעקוב בקפדנות אחר כמות מי השפיר ולשקול נפרוסטומיות מנקזות לחלל השליה או לידה מוקדמת. (אחרי 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מות מי-שפיר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מי השפיר נוצרים עד 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0-14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ע"י השליה. לכ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לא נאבחן  מומים כלייתים בשלב זה ע"י מיעוט מ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שפיר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4-16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יש חפיפה ומי השפיר נוצרים ג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בכליות העובריות וגם מהשלי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שבוע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י השפיר נוצרים בעיקר ע"י הכליות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העוברי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יעוט מי שפיר –יצירה מועטת, הפרעה בהפרשה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משנית לחסימה, או פגיעה בתפקוד כליית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cc"/>
                </a:solidFill>
                <a:latin typeface="Times New Roman"/>
              </a:rPr>
              <a:t>Congenital nephrotic syndrome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nnish typ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צורה השכיחה באוכלוסיה לבנ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חלה אוטוסומלית רצסיבי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תיצגות קלינית : פרוטאינוריה מאסיבית המתחילה כבר בחיים העובריים . הכליות גדולות והיפראקואיו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להבדיל מכליות פוליציסטיות יש ריבוי מי שפיר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œ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–fetoprote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דם ובמי השפיר מאד גבוהים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שילוב של  תמונה אולטרהסונוגרפית+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œ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–fetoprote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ובהעדר פגם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eural tube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אפשרים אבחון תוך רחמי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הילד הנפרוט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5111640" cy="403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708280"/>
            <a:ext cx="2627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יעוץ טרום לידה למשפח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אבחון טרום לידה למחלות כליה : הוא "מדע" לא מדוייק, ולכן  מתעוררות הרבה מאד ספק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כאשר אנו יועצים למשפחות: אנו מציגים את העובדות לגבי האבחנה הסבירה ביותר ומספרים להם גם את הפרוגנוז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במקרים בהם ישנם מספר אנומליות מולדות  אנו מערבים גם את הרופאים האחרים הקשורים לפגמים שאובחנו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לאחר ישיבה ארוכה עם בני הזוג והסברים מפורטים אנו שולחים לזוג את סיכום הייעוץ בכת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יעוץ טרום לידה למשפח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יו לנו הרבה מקרים בהם הסברנו את העלול להתרח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לאחר הלידה כאשר הפרוגנוזה אינה גרועה (מקרי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כמו פגיעה רק בכליה אחת , מקרי רפלוקס, ) ולמר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זאת ההורים פנו לועדה להפסקת הרי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ולחילופין מקרים אשר מראש יידענו את ההורים כ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הפרוגנוזה גרועה ולילוד מצפה דיאליזה בתחילת דרכ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ואלו החליטו להמשיך את ההריון. (בעיקר מטעמי דת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עלינו לתת את מירב המידע להורים כדי שההחלטו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תהיינה  מושכלו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בחון טרום לידת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השכיחות של מומים כלייתים היא &lt;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%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מכלל הילודים . מאידך אם נמצא מום כלייתי ישנה שכיחות גבוהה של מומים נלווי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תחלואה הכרוכה במומי כליה מולדים גבוהה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/3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הילדים עם אי ספיקת כליות הם כתוצאה ממומים  ומחלות כליה מולד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באוכלוסיה באזור שלנו האחוזים גבוהים יותר בגלל  השכיחות הגבוהה של נישואי קרובי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0680" y="1285920"/>
          <a:ext cx="7694640" cy="6157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1285920"/>
                    <a:ext cx="769464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אבחון טרום לידת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990000"/>
                </a:solidFill>
                <a:latin typeface="Times New Roman"/>
              </a:rPr>
              <a:t>נעשה בד"כ כאשר המחלה הכלייתית קשה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. עלולה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להתקדם במהרה לאי ספיקת כליות  והצורך לדיאליזה בגיל צעיר ,ואם לפגיעה הכלייתית נלווים סממנים לא כלייתים קשים. כמו ב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RKD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, תסמונת נפרוטית מולדת, ואפילו במספר מקרים של אלפורט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להבדיל אין צורך באבחון טרום לידתי במקרים של דיאבטיס אינסיפידוס נפרוגני. ניתן היום לאבחן מדם טבורי לאחר הלידה .עם טיפול מוקדם נמנע את מרבית הנזקי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תסמונת נפרוטית מולדת –פיניש  טייפ חשובה לאבחון מוקדם: ע"י מציאת המוטציה  ב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PHS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 1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גן המקודד את הנפרין בסיסי שליה. לציין אלפא פטופרוטאינים גבוהים גם בצורה ההטרוזיגוטי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יעוצים טרום ליד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זוגות הופנו עד כה ליעוץ טרום לידה למרפאה הנפרוגנטית כאן. (הפועלת מיוני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היו אחרי סקירת מערכות מורחבת עם אבחנה של   בעיה כליית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זוגות הגיעו לייעוץ בגלל מחלת כליה במשפחה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   מחלות כליה תורשתיו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שפחות הגיעו בגלל ידיעה כי במשפחה י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יעוצים טרום ליד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imary hyperoxaluria type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ysti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ansse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ngenital nephrotic syndrome –Finnish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DPKD; ARPK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ephronopht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Kenney-caffey dise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ent’s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lport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553080" y="838080"/>
          <a:ext cx="2362320" cy="22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838080"/>
                    <a:ext cx="23623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105520" y="3581280"/>
          <a:ext cx="3714480" cy="350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3581280"/>
                    <a:ext cx="3714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4674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0"/>
          <a:ext cx="9144000" cy="6865920"/>
        </p:xfrm>
        <a:graphic>
          <a:graphicData uri="http://schemas.openxmlformats.org/drawingml/2006/table">
            <a:tbl>
              <a:tblPr/>
              <a:tblGrid>
                <a:gridCol w="3276720"/>
                <a:gridCol w="1981080"/>
                <a:gridCol w="3886200"/>
              </a:tblGrid>
              <a:tr h="5850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Prenatal find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No of p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Post Natal Findin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ydronephrosis: uni/bilateral&gt;10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unilat/8 bi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UPJ  stenosis, 3 UVJ stenosis, 2 Ureterocele, 6 VUR. 2 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der outlet obstru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Post urethral valve Prune bell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nal agenesis unilateral/bilat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born with single kidney  Potter syndr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lticystic Dysplastic kid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with vur grade &gt;III, 1 non refluxing megaureter, 1 no rea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ycystic Kidne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 ADPK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ctopic Kid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Pelvic kidney-unilat,1 cross ctop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rsehoe kid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uble 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ffer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phrocalcinosis,neuroblastoma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I, Cystin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מטרת היעוץ הנפרו-גנטי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8780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תמיכה בהורים , לאפשר להם להבין את סוג  הפגיעה,וכמוב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   אם קיימת סיבה לפגם לייעץ לגבי ההריון הבא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 ההערכה לגבי הישנות המום /או המחלה הכלייתי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לעזור למשפחה לקחת החלטות לגבי הפעולה הנכונה לאח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   האבח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  הסבר מפורט מהן בדיקות ההדמייה והטיפולים שהילוד יעבור לאחר הליד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תיאור מקר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אשה בת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שנים הריון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הופנתה אלינו לאבחון טרום לידתי של היפראוקסלוריה. נשואה לבן דוד דרגה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לאחותה הנשואה לבן-דוד  יש שני ילדים הסובלים מ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imary Hyperoxaluria type I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אשר עברו השתלות כבד וכליה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המוטציה של המשפחה מוכרת לנו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אנו יודעים כי בני הזוג נשאים של המוטציה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בשבוע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נעשתה אבחנה כי הילד בריא והינו הטרוזיגוט למוטציה ל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HI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בשבוע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הרחבת אגנוני כליה דו"צ עם שלפוחית מעובה עם טרבקולציות  עם כמות מי שפיר תקינה .מאחר וההידרונפרוזיס גדלה למימדים של&gt;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מ"מ דו"צ,הוחלט ליילד את התינוק בשבוע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.נולד ילד עם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UV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ואי ספיקה כלייתית. מיד לאחר הלידה צונתרה השלפוחית ונעשה ניסיון לתקן את ה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alv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היום הילד בן 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he-IL" sz="2400" spc="-1" strike="noStrike">
                <a:solidFill>
                  <a:srgbClr val="ffffff"/>
                </a:solidFill>
                <a:latin typeface="Times New Roman"/>
              </a:rPr>
              <a:t> שנתיים עם אי ספיקת כליות ומטופל שמרני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1116000" y="836640"/>
          <a:ext cx="7559640" cy="5040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836640"/>
                    <a:ext cx="7559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סיכום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0728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עבודת הצוות בתחום הייעוץ הגנטי חשובה מאד כדי לתת להורים  את מירב המידע לגבי הבעיה של הילוד שלה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נוכחות הנפרולוג –הרופא אשר יטפל בילד בהמשך מחד, והיועץ הגנטי הנותן להורים מידע לגבי ההריון הנוכחי וכמובן גם לגבי ההריונות העתידיים נותן להורים את היכולת להתמודד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990000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מאחר ובדיני נפשות עסקינן גם העומס הנפשי של היועצים בצוות קשה ומשמעותי,כל אחד מהשותפים לצוות תומך בעמיתו ומחזק אותו כי ההחלטה שבוצעה הינה –הנכונה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929560" cy="4464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4365720"/>
            <a:ext cx="723960" cy="990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755640" y="1125360"/>
            <a:ext cx="3311640" cy="2735280"/>
          </a:xfrm>
          <a:prstGeom prst="rect">
            <a:avLst/>
          </a:prstGeom>
        </p:spPr>
        <p:txBody>
          <a:bodyPr wrap="none" lIns="91800" rIns="91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תוד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00ffcc"/>
                </a:solidFill>
                <a:latin typeface="Times New Roman"/>
              </a:rPr>
              <a:t>אבחון טרום לידתי-תוך רחמי</a:t>
            </a:r>
            <a:endParaRPr b="0" lang="en-US" sz="48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השמוש הרוטיני בבדיקת עק"ג (אולטרה-סאונד ) "יצרה" את הצורך בייעוץ  משולב גנטי ונפרולוג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ממצאים כמו : הידרונפרוזיס, מחלה כלייתית ציסטית, אגנזיס של כליה, אבנים בכליות: הממצאים השכיחים המאובחנים טרום-לידה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תיבת פנדורה נפרולוגית-אורולוגי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השכיחות של אנומליות כלייתיות מאובחנות טרום-לידה: נעה בין 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0.28%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0.5%</a:t>
            </a: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 לפי הסקרים השוני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Times New Roman"/>
              </a:rPr>
              <a:t>הפגם השכיח ביותר הוא : הידרונפרוזי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עק"ג מגלה אנומליות במרבית האיברים,הניגוד בין איבר סולידי לנוזל –מקנה לכליה יתרון אבחונ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אנומליות כלייתיות מהוות כ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מכלל האנומליות המתגלות בסקירות מוקדמות (שבוע 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18-20</a:t>
            </a: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ff"/>
                </a:solidFill>
                <a:latin typeface="Times New Roman"/>
              </a:rPr>
              <a:t>אנומליות כלייתיות עלולות להיות חלק מתסמונות ו/או להופיע עם מומים נוספי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800" spc="-1" strike="noStrike">
                <a:solidFill>
                  <a:srgbClr val="ffff66"/>
                </a:solidFill>
                <a:latin typeface="Times New Roman"/>
              </a:rPr>
              <a:t>כל יעוץ ניתן על בסיס מה שאנו רואים-תמיד יוותר מרכיב של ספק לגבי מה שאינו  מודג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800" spc="-1" strike="noStrike">
                <a:solidFill>
                  <a:srgbClr val="00ffcc"/>
                </a:solidFill>
                <a:latin typeface="Times New Roman"/>
              </a:rPr>
              <a:t>אבחון טרום לידתי-תוך רחמי</a:t>
            </a:r>
            <a:endParaRPr b="0" lang="en-US" sz="4800" spc="-1" strike="noStrike">
              <a:solidFill>
                <a:srgbClr val="00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סוגי האנומליות המאובחנות טרום-לידה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נומליות בגודל הכל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נומליות במרקם הכל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ציסטות כליית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ידרונפרוזי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נומליות של  שלחוף השתן, והשופכני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66cc"/>
                </a:solidFill>
                <a:latin typeface="Times New Roman"/>
              </a:rPr>
              <a:t>העק"ג מגלה אנומליות מבניות אך אינו נותן כל מידע לגבי התפקוד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מידע היחידי העקיף לגבי תפקוד הוא כמות מי השפיר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גודל הכליו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כליות גדלות במהלך ההריון, קיימות עקומות עם אחוזונים לפי גיל ההרי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אורך כליה הוא 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1.1</a:t>
            </a: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 מ"מ לכל שבוע הריון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סיבות לכליות גדולות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הידרונפרוזי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ות פוליציסטיו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כליה מולטיציסטית דיספלסטי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תסמונת נפרוטית מולד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ffffff"/>
                </a:solidFill>
                <a:latin typeface="Times New Roman"/>
              </a:rPr>
              <a:t>גידול בכלי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כליות </a:t>
            </a:r>
            <a:r>
              <a:rPr b="1" i="1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e-IL" sz="4400" spc="-1" strike="noStrike">
                <a:solidFill>
                  <a:srgbClr val="00ffcc"/>
                </a:solidFill>
                <a:latin typeface="Times New Roman"/>
              </a:rPr>
              <a:t>קטנות</a:t>
            </a:r>
            <a:endParaRPr b="0" lang="en-US" sz="4400" spc="-1" strike="noStrike">
              <a:solidFill>
                <a:srgbClr val="00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 כליה דיספלסטית היפופלסטי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כליה אשר ניזוקה מבעיה חסימתי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imes New Roman"/>
              </a:rPr>
              <a:t>לעיתים נהיה עדים לכליה אחת  קטנה והשניה גדולה קומפנסטורית   </a:t>
            </a:r>
            <a:r>
              <a:rPr b="0" lang="he-IL" sz="3200" spc="-1" strike="noStrike" u="sng">
                <a:solidFill>
                  <a:srgbClr val="ff66cc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4191120"/>
          <a:ext cx="335268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191120"/>
                    <a:ext cx="33526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3:20:06Z</dcterms:created>
  <dc:creator>Irith</dc:creator>
  <dc:description/>
  <dc:language>en-US</dc:language>
  <cp:lastModifiedBy>Liora Zakai</cp:lastModifiedBy>
  <dcterms:modified xsi:type="dcterms:W3CDTF">2006-12-07T17:36:42Z</dcterms:modified>
  <cp:revision>29</cp:revision>
  <dc:subject/>
  <dc:title>שקופית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31037</vt:lpwstr>
  </property>
</Properties>
</file>